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A59A-6598-4923-8F09-1B430435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54F9-1686-46A5-B19A-4E06E730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6F61-8290-4A12-8AEA-32678D47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90B0-388B-4B4B-9648-0F540F5C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F816-D1AA-480A-A14B-4A3FCDAA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52C3-A628-4D20-8727-5B4E6B2C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7347-C3E4-4FBB-9102-12A2D449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959B-D095-42CC-AB82-94667284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968A-0CDD-49CB-B747-AB4E3DC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7F72-EB7C-42B2-816E-2925882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3CA4-0BF4-4DAC-B920-8B83F3A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A20E-9900-41EB-A36F-D0FB98A0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4954-7307-490F-A8D6-652DB55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E45-3E50-4057-9180-3655CEB9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736E-865B-47EE-965A-1C8CA0A6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8029-5F1F-4DA1-A2B3-FD4B2CA6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52B5-B337-4D99-8E74-4D8EFA5E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229A-5C77-4D39-BCE2-F9EDCD26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F8AE-0B68-4903-BC7B-CE909C87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4591-71AF-43C9-B726-5D1CE618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FCFA-B618-4D29-A4FB-80EA8044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AB15-B9AF-4DD1-AF5B-D17F398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7FAF-6A6B-4510-8F1F-35153EC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D573-932F-423D-934F-7076B94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7E3-2104-4E2D-A721-8A6B82C0EC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eorgi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6304-C633-447A-8B07-63BF15111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utureofthebook.org/mitchellstephens/archives/Jesus.jpg&amp;imgrefurl=http://www.futureofthebook.org/mitchellstephens/archives/jesus/&amp;h=900&amp;w=638&amp;sz=192&amp;hl=en&amp;start=14&amp;tbnid=gyJ_2grekllnfM:&amp;tbnh=146&amp;tbnw=103&amp;prev=/images%3Fq%3Djesus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howard.k12.md.us/res/videogames/spiderman.jpeg&amp;imgrefurl=http://www.howard.k12.md.us/res/videogames/spiderman.html&amp;h=300&amp;w=385&amp;sz=39&amp;hl=en&amp;start=13&amp;tbnid=0sCmwluKh1Kr2M:&amp;tbnh=96&amp;tbnw=123&amp;prev=/images%3Fq%3Dspiderman%26gbv%3D2%26ndsp%3D20%26svnum%3D10%26hl%3Den%26sa%3DX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alexloveseverything.com/uploaded_images/poppins4-715158.jpg&amp;imgrefurl=http://www.alexloveseverything.com/2006_03_01_archive.html&amp;h=397&amp;w=319&amp;sz=12&amp;hl=en&amp;start=16&amp;tbnid=-SzyWYggwi1CeM:&amp;tbnh=124&amp;tbnw=100&amp;prev=/images%3Fq%3Dmary%2Bpoppins%26gbv%3D2%26svnum%3D10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elephantcountryweb.com/Ellies3/dumbo.gif&amp;imgrefurl=http://www.elephantcountryweb.com/Elliedrawings.html&amp;h=489&amp;w=723&amp;sz=8&amp;hl=en&amp;start=2&amp;tbnid=IoM_VqufmYwsxM:&amp;tbnh=95&amp;tbnw=140&amp;prev=/images%3Fq%3Ddumbo%255C%26gbv%3D2%26svnum%3D10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www.historyplace.com/specials/calendar/docs-pix/fdr.jpg&amp;imgrefurl=http://www.historyplace.com/specials/calendar/docs-pix/jan-fdr.htm&amp;h=472&amp;w=398&amp;sz=26&amp;hl=en&amp;start=1&amp;tbnid=VAfZyn7ViSt5MM:&amp;tbnh=129&amp;tbnw=109&amp;prev=/images%3Fq%3DFDR%26gbv%3D2%26svnum%3D10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pubpages.unh.edu/~mdx8/images/jordan3.jpg&amp;imgrefurl=http://pubpages.unh.edu/~mdx8/jordan.html&amp;h=600&amp;w=380&amp;sz=50&amp;hl=en&amp;start=5&amp;tbnid=FtKeJDsu1MlkEM:&amp;tbnh=135&amp;tbnw=86&amp;prev=/images%3Fq%3Dmichael%2Bjordan%255C%26gbv%3D2%26ndsp%3D20%26svnum%3D10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thegreenhead.com/imgs/darth-vader-gloves-3.jpg&amp;imgrefurl=http://www.thegreenhead.com/2006/11/darth-vader-gloves.php&amp;h=413&amp;w=550&amp;sz=52&amp;hl=en&amp;start=27&amp;tbnid=MMmGAY3g7ArUIM:&amp;tbnh=100&amp;tbnw=133&amp;prev=/images%3Fq%3Ddarth%2Bvader%26start%3D20%26gbv%3D2%26ndsp%3D20%26svnum%3D10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www.pottersrealm.com/albums/Book_covers/s_Stone.jpg&amp;imgrefurl=http://www.pottersrealm.com/sitemap.html&amp;h=475&amp;w=304&amp;sz=40&amp;hl=en&amp;start=37&amp;tbnid=TCdoNbSNpSI2vM:&amp;tbnh=129&amp;tbnw=83&amp;prev=/images%3Fq%3Dharry%2Bpotter%2Bfirebolt%26start%3D20%26gbv%3D2%26ndsp%3D20%26svnum%3D10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eorgia"/>
              </a:rPr>
              <a:t>The Basketball Case</a:t>
            </a: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Daniel Barclay Celtic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uncreativerAIM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ichael Barclay Laker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mbarclay623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IM Exchange of 03-20-2006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5E08-BF12-4C61-BA6C-5438DF50CC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mbarclay623: Spidey puts a web on the ball, passes to Mary Poppins, SLAM DUNK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ncreativerAIM: nice t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ncreativerAIM: but, Jesus is such a nice person that would he really be able to take sides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mbarclay623: John 3:16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733E-5509-4023-A143-8EF8AD78A9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and in terms of the levitating English people, Potter has much more maneuverability than Poppin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mbarclay623: I told you, Jesus made him a Muggle again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there's always the "Michael Jordan is Jesus" argument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mbarclay623: Oh yeah huh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7DDA-8F94-4781-944C-AF7138083E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barclay623: So where did you use this basketball case?  And how did (1) the other team, (2) the judge like i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: everyone liked it, it's now almost as legendary as my "blow up the moon with nuclear weapons" c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: although, the judges are obligated to give silly cases the loss with low sc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: even though they liked it to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F674-CB07-4056-A7C5-7E82E7E3FC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mbarclay623: Say, what do Tigger and Dumbo do?  (I picked Dumbo, since he's a huge power forward who can fly to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ncreativerAIM: tigger's good for rebounds with his mad jumping skillz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373A-042A-47CC-B28F-4EA94F17A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eorgia"/>
              </a:rPr>
              <a:t>The Basketball Case</a:t>
            </a: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Daniel Barclay Celtic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uncreativerAIM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ichael Barclay Laker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mbarclay623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IM Exchange of 03-20-2006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499D-1817-48A6-B52D-8D67670C11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mbarclay623: And good luck at Yale this weekend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uncreativerAIM: thanks, although the problem there is they make you talk about serious things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uncreativerAIM: you've got to hear this one case I ran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8697-C9ED-4828-897B-A67D8857CE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uncreativerAIM: It's a basketball court in Harlem, and ten individuals have assembled for a pickup game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uncreativerAIM: These individuals, who are all alive and in their prime, are: Michael Jordan, Franklin D. Roosevelt, Darth Vader, Mary Poppins, Harry Potter, Tigger, Dumbo the flying elephant, Spider-Man, Mother Teresa, and Jesus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4B9F-BDBF-4CA4-B057-3B976E580B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uncreativerAIM: you draft one, then I draft one, and so on until we're up to 5 each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uncreativerAIM: then we each argue for why our team will wi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34DB-F501-44F3-9749-04FC5A541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mbarclay623: Hey, you forgot George W. Bush, a lawyer, and a duck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uncreativerAIM: that's true, a duck could fly, that'd be usefu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DE3A-7378-4D4A-949E-A34106816E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eorgia"/>
              </a:rPr>
              <a:t>The Team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295280"/>
            <a:ext cx="4114800" cy="10688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barclay623 L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95280"/>
            <a:ext cx="4572000" cy="106884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 Cel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1.  I'll start with Jesus.  Miracles are us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  Spider-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724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ry Popp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334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umb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867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057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pick Michael Jordan, your 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arth V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8098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(oddly enough, this is going exactly like it did in the actual r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006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arry Po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53341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ig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5867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ther Te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A4DC-3D2D-4319-8852-634DADDEE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eorgia"/>
              </a:rPr>
              <a:t>The Team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438280"/>
            <a:ext cx="981360" cy="1390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724280"/>
            <a:ext cx="1600200" cy="124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05120" y="2590920"/>
            <a:ext cx="110628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43200" y="4876920"/>
            <a:ext cx="1523880" cy="103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2590920"/>
            <a:ext cx="1038240" cy="1228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2286000"/>
            <a:ext cx="111600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76920" y="4343400"/>
            <a:ext cx="1600200" cy="1374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172200" y="2286000"/>
            <a:ext cx="1077840" cy="1676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7"/>
          <a:stretch/>
        </p:blipFill>
        <p:spPr>
          <a:xfrm>
            <a:off x="7391520" y="2362320"/>
            <a:ext cx="9954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8"/>
          <a:stretch/>
        </p:blipFill>
        <p:spPr>
          <a:xfrm>
            <a:off x="6858000" y="4267080"/>
            <a:ext cx="107172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1295280"/>
            <a:ext cx="4114800" cy="10688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barclay623 L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295280"/>
            <a:ext cx="4572000" cy="106884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 Cel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67B7-439D-4DE6-B5B2-1DD250ABE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3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6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eorgia"/>
              </a:rPr>
              <a:t>uncreativerAIM: alright, so I think my team is pretty strong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0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eorgia"/>
              </a:rPr>
              <a:t>uncreativerAIM: first, I station Mother Teresa under my basket, no one would dare shove such a saintly old woman out of the way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0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eorgia"/>
              </a:rPr>
              <a:t>mbarclay623: I put FDR on Mother Teresa, right.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71A3-4F77-41EB-88F1-669909D64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Darth Vader can just use his telekinesis to make the ball fly through the a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hard to see how you'd counter that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mbarclay623: Yeah, but Jesus will make a miracle occur -- Darth becomes Annakin again, MJ becomes a cartoon character, and Harry Potter becomes a Muggle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EBD4-9A03-47CA-94EF-024A830AA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3:19:52Z</dcterms:created>
  <dc:creator>Me</dc:creator>
  <dc:description/>
  <dc:language>en-US</dc:language>
  <cp:lastModifiedBy>mb2</cp:lastModifiedBy>
  <dcterms:modified xsi:type="dcterms:W3CDTF">2007-04-26T00:02:18Z</dcterms:modified>
  <cp:revision>34</cp:revision>
  <dc:subject/>
  <dc:title>The Basketball Case</dc:title>
</cp:coreProperties>
</file>