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44E0-30AA-439A-95FE-7BD658C3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D64F-79F1-48C3-9D37-5F67B7B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E1A8-2B9B-4809-9020-D77D1D98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E794-4BE2-4B5A-8C42-5835CD71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65E3-98A9-486C-BB81-393E7C6A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B2B-886C-4A7C-A069-EA7AA765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E556-E3D8-4511-8A00-F79C4F14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22F-F93C-4C74-9467-C7EFE8B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6954-BDC2-44CC-961F-1B6CAF2F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3FE-CFFF-4034-96EA-5AF86BF6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9893-D5A8-4414-8E7A-00A012BA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8F30-79E2-4295-9376-02E91C54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AB86-7FF9-4AEC-9988-6E21FB6F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502E-8129-4E77-B763-49CD87A8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2B3C-C6D8-49FE-9585-5E277E65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DF26-0EB2-42DE-BCB4-9273206A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9915-50C2-4C29-98B3-764B3662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735A-CAA5-4C63-AB21-535A78F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6538-7173-40DA-A964-14D0B6C7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303A-7805-43F5-8FC7-D04A3174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45D6-9140-4267-A099-8EA323BE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49D6-B905-4F3B-A39C-9B8EAAB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44C4-D8B4-445A-B757-1F80AF9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D94D-D52D-43ED-A2A1-090F492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260B-5FF9-4DDD-8A94-67F28047FF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eorgi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B14-CC46-4770-9D96-5997F6918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utureofthebook.org/mitchellstephens/archives/Jesus.jpg&amp;imgrefurl=http://www.futureofthebook.org/mitchellstephens/archives/jesus/&amp;h=900&amp;w=638&amp;sz=192&amp;hl=en&amp;start=14&amp;tbnid=gyJ_2grekllnfM:&amp;tbnh=146&amp;tbnw=103&amp;prev=/images%3Fq%3Djesus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howard.k12.md.us/res/videogames/spiderman.jpeg&amp;imgrefurl=http://www.howard.k12.md.us/res/videogames/spiderman.html&amp;h=300&amp;w=385&amp;sz=39&amp;hl=en&amp;start=13&amp;tbnid=0sCmwluKh1Kr2M:&amp;tbnh=96&amp;tbnw=123&amp;prev=/images%3Fq%3Dspiderman%26gbv%3D2%26ndsp%3D20%26svnum%3D10%26hl%3Den%26sa%3DX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alexloveseverything.com/uploaded_images/poppins4-715158.jpg&amp;imgrefurl=http://www.alexloveseverything.com/2006_03_01_archive.html&amp;h=397&amp;w=319&amp;sz=12&amp;hl=en&amp;start=16&amp;tbnid=-SzyWYggwi1CeM:&amp;tbnh=124&amp;tbnw=100&amp;prev=/images%3Fq%3Dmary%2Bpoppins%26gbv%3D2%26svnum%3D10%26hl%3De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www.elephantcountryweb.com/Ellies3/dumbo.gif&amp;imgrefurl=http://www.elephantcountryweb.com/Elliedrawings.html&amp;h=489&amp;w=723&amp;sz=8&amp;hl=en&amp;start=2&amp;tbnid=IoM_VqufmYwsxM:&amp;tbnh=95&amp;tbnw=140&amp;prev=/images%3Fq%3Ddumbo%255C%26gbv%3D2%26svnum%3D10%26hl%3Den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/imgres?imgurl=http://www.historyplace.com/specials/calendar/docs-pix/fdr.jpg&amp;imgrefurl=http://www.historyplace.com/specials/calendar/docs-pix/jan-fdr.htm&amp;h=472&amp;w=398&amp;sz=26&amp;hl=en&amp;start=1&amp;tbnid=VAfZyn7ViSt5MM:&amp;tbnh=129&amp;tbnw=109&amp;prev=/images%3Fq%3DFDR%26gbv%3D2%26svnum%3D10%26hl%3De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pubpages.unh.edu/~mdx8/images/jordan3.jpg&amp;imgrefurl=http://pubpages.unh.edu/~mdx8/jordan.html&amp;h=600&amp;w=380&amp;sz=50&amp;hl=en&amp;start=5&amp;tbnid=FtKeJDsu1MlkEM:&amp;tbnh=135&amp;tbnw=86&amp;prev=/images%3Fq%3Dmichael%2Bjordan%255C%26gbv%3D2%26ndsp%3D20%26svnum%3D10%26hl%3Den%26sa%3DN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/imgres?imgurl=http://www.thegreenhead.com/imgs/darth-vader-gloves-3.jpg&amp;imgrefurl=http://www.thegreenhead.com/2006/11/darth-vader-gloves.php&amp;h=413&amp;w=550&amp;sz=52&amp;hl=en&amp;start=27&amp;tbnid=MMmGAY3g7ArUIM:&amp;tbnh=100&amp;tbnw=133&amp;prev=/images%3Fq%3Ddarth%2Bvader%26start%3D20%26gbv%3D2%26ndsp%3D20%26svnum%3D10%26hl%3Den%26sa%3DN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om/imgres?imgurl=http://www.pottersrealm.com/albums/Book_covers/s_Stone.jpg&amp;imgrefurl=http://www.pottersrealm.com/sitemap.html&amp;h=475&amp;w=304&amp;sz=40&amp;hl=en&amp;start=37&amp;tbnid=TCdoNbSNpSI2vM:&amp;tbnh=129&amp;tbnw=83&amp;prev=/images%3Fq%3Dharry%2Bpotter%2Bfirebolt%26start%3D20%26gbv%3D2%26ndsp%3D20%26svnum%3D10%26hl%3Den%26sa%3DN" TargetMode="External"/><Relationship Id="rId16" Type="http://schemas.openxmlformats.org/officeDocument/2006/relationships/image" Target="../media/image8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eorgia"/>
              </a:rPr>
              <a:t>The Basketball Case</a:t>
            </a: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Daniel Barclay Celtic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uncreativerAIM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ichael Barclay Laker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mbarclay623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IM Exchange of 03-20-2006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124E-B78C-4E64-B79F-F8E272409A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mbarclay623: Spidey puts a web on the ball, passes to Mary Poppins, SLAM DUNK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ncreativerAIM: nice t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ncreativerAIM: but, Jesus is such a nice person that would he really be able to take sides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mbarclay623: John 3:16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EB41-6FE7-4260-B236-67D041A63F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and in terms of the levitating English people, Potter has much more maneuverability than Poppin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mbarclay623: I told you, Jesus made him a Muggle again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there's always the "Michael Jordan is Jesus" argument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mbarclay623: Oh yeah huh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F728-B58E-456D-805E-5ED3FFE6E1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barclay623: So where did you use this basketball case?  And how did (1) the other team, (2) the judge like i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: everyone liked it, it's now almost as legendary as my "blow up the moon with nuclear weapons" c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: although, the judges are obligated to give silly cases the loss with low sc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: even though they liked it to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B29A-AB2C-4997-998A-D6967BD26C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mbarclay623: Say, what do Tigger and Dumbo do?  (I picked Dumbo, since he's a huge power forward who can fly to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ncreativerAIM: tigger's good for rebounds with his mad jumping skillz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4877-1BA7-440D-A09F-FCF7003B91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eorgia"/>
              </a:rPr>
              <a:t>The Basketball Case</a:t>
            </a:r>
            <a:endParaRPr b="1" lang="en-US" sz="6000" spc="-1" strike="noStrike">
              <a:solidFill>
                <a:srgbClr val="e5e5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Daniel Barclay Celtic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uncreativerAIM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ichael Barclay Laker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mbarclay623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IM Exchange of 03-20-2006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A40E-D998-4EB1-8405-113FA06B7D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696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mbarclay623: And good luck at Yale this weekend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uncreativerAIM: thanks, although the problem there is they make you talk about serious things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eorgia"/>
              </a:rPr>
              <a:t>uncreativerAIM: you've got to hear this one case I ran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C4B5-D2FE-4107-B483-7D73E4113E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uncreativerAIM: It's a basketball court in Harlem, and ten individuals have assembled for a pickup game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9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eorgia"/>
              </a:rPr>
              <a:t>uncreativerAIM: These individuals, who are all alive and in their prime, are: Michael Jordan, Franklin D. Roosevelt, Darth Vader, Mary Poppins, Harry Potter, Tigger, Dumbo the flying elephant, Spider-Man, Mother Teresa, and Jesus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E11E-E75D-44BE-A627-67010C415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uncreativerAIM: you draft one, then I draft one, and so on until we're up to 5 each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uncreativerAIM: then we each argue for why our team will w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0C97-61D5-4B74-9A9F-8E9A045867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mbarclay623: Hey, you forgot George W. Bush, a lawyer, and a duck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uncreativerAIM: that's true, a duck could fly, that'd be usefu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C054-9956-4A16-A490-881B46CDC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eorgia"/>
              </a:rPr>
              <a:t>The Team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95280"/>
            <a:ext cx="4114800" cy="10688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barclay623 L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95280"/>
            <a:ext cx="4572000" cy="106884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 Cel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1.  I'll start with Jesus.  Miracles are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  Spider-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724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ry Popp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334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umb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057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pick Michael Jordan, your 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200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arth V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8098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(oddly enough, this is going exactly like it did in the actual r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0060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arry Po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53341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ig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5867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ther Te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70F5-3481-4049-845B-46FEE16AE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eorgia"/>
              </a:rPr>
              <a:t>The Team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438280"/>
            <a:ext cx="981360" cy="139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4724280"/>
            <a:ext cx="1600200" cy="124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5120" y="2590920"/>
            <a:ext cx="110628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43200" y="4876920"/>
            <a:ext cx="1523880" cy="103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2590920"/>
            <a:ext cx="1038240" cy="1228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952880" y="2286000"/>
            <a:ext cx="111600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876920" y="43434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172200" y="2286000"/>
            <a:ext cx="1077840" cy="1676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7"/>
          <a:stretch/>
        </p:blipFill>
        <p:spPr>
          <a:xfrm>
            <a:off x="7391520" y="2362320"/>
            <a:ext cx="9954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8"/>
          <a:stretch/>
        </p:blipFill>
        <p:spPr>
          <a:xfrm>
            <a:off x="6858000" y="4267080"/>
            <a:ext cx="107172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295280"/>
            <a:ext cx="4114800" cy="10688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barclay623 L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295280"/>
            <a:ext cx="4572000" cy="106884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reativerAIM Cel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85F4-0585-45C6-A33E-F8AA6DA5C5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6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eorgia"/>
              </a:rPr>
              <a:t>uncreativerAIM: alright, so I think my team is pretty strong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0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eorgia"/>
              </a:rPr>
              <a:t>uncreativerAIM: first, I station Mother Teresa under my basket, no one would dare shove such a saintly old woman out of the way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102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Georgia"/>
              </a:rPr>
              <a:t>mbarclay623: I put FDR on Mother Teresa, right.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72BC-EF09-4733-86EF-6706DD5BAF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Darth Vader can just use his telekinesis to make the ball fly through the a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uncreativerAIM: hard to see how you'd counter that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mbarclay623: Yeah, but Jesus will make a miracle occur -- Darth becomes Annakin again, MJ becomes a cartoon character, and Harry Potter becomes a Muggle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B1BCD-B411-466E-80E2-9979A72EC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3:19:52Z</dcterms:created>
  <dc:creator>Me</dc:creator>
  <dc:description/>
  <dc:language>en-US</dc:language>
  <cp:lastModifiedBy>mb2</cp:lastModifiedBy>
  <dcterms:modified xsi:type="dcterms:W3CDTF">2007-04-26T00:02:18Z</dcterms:modified>
  <cp:revision>34</cp:revision>
  <dc:subject/>
  <dc:title>The Basketball Case</dc:title>
</cp:coreProperties>
</file>