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2880" y="5714640"/>
            <a:ext cx="144792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marL="237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2880" y="5834160"/>
            <a:ext cx="144792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marL="237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2880" y="5714640"/>
            <a:ext cx="70632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marL="237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94840" y="5714640"/>
            <a:ext cx="70632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marL="237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2880" y="5834160"/>
            <a:ext cx="70632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marL="237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94840" y="5834160"/>
            <a:ext cx="70632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marL="237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2880" y="5714640"/>
            <a:ext cx="46584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20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42480" y="5714640"/>
            <a:ext cx="46584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20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5714640"/>
            <a:ext cx="46584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20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2880" y="5834160"/>
            <a:ext cx="46584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20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442480" y="5834160"/>
            <a:ext cx="46584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20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5834160"/>
            <a:ext cx="46584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20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2880" y="5714640"/>
            <a:ext cx="1447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2880" y="5714640"/>
            <a:ext cx="1447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2880" y="5714640"/>
            <a:ext cx="70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94840" y="5714640"/>
            <a:ext cx="70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2880" y="5714640"/>
            <a:ext cx="70632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marL="237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94840" y="5714640"/>
            <a:ext cx="70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2880" y="5834160"/>
            <a:ext cx="70632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marL="237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2880" y="5714640"/>
            <a:ext cx="70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94840" y="5714640"/>
            <a:ext cx="70632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marL="237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94840" y="5834160"/>
            <a:ext cx="70632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marL="237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2880" y="5714640"/>
            <a:ext cx="70632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marL="237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94840" y="5714640"/>
            <a:ext cx="70632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marL="237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2880" y="5834160"/>
            <a:ext cx="144792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marL="237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2880" y="5714640"/>
            <a:ext cx="1447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marL="23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lvl="1" marL="23760" indent="-23760" algn="ctr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lvl="2" marL="23760" indent="-23760" algn="ct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lvl="3" marL="23760" indent="-23760" algn="ctr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lvl="4" marL="23760" indent="-23760" algn="ctr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lvl="5" marL="23760" indent="-23760" algn="ctr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lvl="6" marL="23760" indent="-23760" algn="ctr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886200" y="640044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Dan Barc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981080" y="380880"/>
            <a:ext cx="523872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981080" y="6095880"/>
            <a:ext cx="523872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905120" y="304920"/>
            <a:ext cx="541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Pretentious Pre-Colon Phrase: Mapping U.S. Partisan Realignment, 1952-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Barclay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005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1295280"/>
            <a:ext cx="64008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tentious Pre-Colon Phrase: Mapping U.S. Partisan Realignment, 1952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3345120"/>
            <a:ext cx="533520" cy="8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ller and Schofield (200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752480"/>
            <a:ext cx="8229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ressions show that the two parties have gradually changed places, which can’t be accounted for by white noise and must therefore be due to realignment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arty continually tries to outflank the other to appeal to groups of swing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dimensions, economic and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952880" y="5714640"/>
            <a:ext cx="1447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914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t Nifty Graph Ag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8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6096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32-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6096240" cy="4495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523880" y="1523880"/>
            <a:ext cx="6096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60-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6096240" cy="4495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64-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6096240" cy="4495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6096240" cy="4495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523880" y="16002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952880" y="5714640"/>
            <a:ext cx="1447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y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981080"/>
            <a:ext cx="8229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fy Schofield and Mi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l call data = relative density of each quad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ions data = area occupied by each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opinion data = frontier between the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y platform data = point position of each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ode national platforms on a 1 / 0 / -1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ress 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proj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idity Problems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6324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575440"/>
            <a:ext cx="6094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981080"/>
            <a:ext cx="8229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l call: Use the data I already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ions: Acquire from 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opinion: Acquire from 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y platforms: Code the data I already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ression: Use ST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there’s this paper that models political realignment on a two-dimensional issues axis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is, it doesn’t have any data to back it up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’ll be bringing in data to quantify the model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42640" y="2133360"/>
            <a:ext cx="7010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ing error, from public opinion data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bias, from coding party platforms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52-2004 time period dictated by data availability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idity Problems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952880" y="5714640"/>
            <a:ext cx="1447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981080"/>
            <a:ext cx="8229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l call: Use the data I already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ions: Acquire from 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opinion: Acquire from 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y platforms: Code the data I already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ression: Use ST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ry designation of social issues as the independent variable and economic issues as the dependent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52880" y="5714640"/>
            <a:ext cx="1447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029200" cy="4103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ptical Depiction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ifty Graph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ifty Graph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terature Review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981080"/>
            <a:ext cx="8229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ms (1918): 12-year cycles from 1776-18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lesinger, Sr. (1949): Projected cycles from 1947-1962, 1962-1978, 1978-19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elec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ain elections such as 1896 and 1932 are “flash points” that see abrupt changes in ide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ntinuou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2880" y="5714640"/>
            <a:ext cx="1447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914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terature Review II: First Bl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1337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ed link to congressional 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dy (1982): Congressional policy changes can be explained through realignment the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ield isn’t credible, so let’s try to support it with one that is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ic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952880" y="5714640"/>
            <a:ext cx="1447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terature Review III: Reign of Cha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981080"/>
            <a:ext cx="8229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ublic opinion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son (1998): When you actually look at the data, realignment theory doesn’t work at all.  You people are du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hew (2002): Yeah, what he s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ge pile-on; realignment lies in t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952880" y="5714640"/>
            <a:ext cx="1447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952880" y="5714640"/>
            <a:ext cx="1447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914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terature Review IV: A New H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981080"/>
            <a:ext cx="8229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 realignment theory will work if we use models that are continuous, not discontinu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th (2002): If we assume the two parties have gradually traded places in the past few decades, public opinion data doesn’t tear us a new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ler and Schofield (2003): The paper I’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giariz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ing up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6:23:05Z</dcterms:created>
  <dc:creator>Daniel Barclay</dc:creator>
  <dc:description/>
  <dc:language>en-US</dc:language>
  <cp:lastModifiedBy>Daniel Barclay</cp:lastModifiedBy>
  <dcterms:modified xsi:type="dcterms:W3CDTF">2005-11-30T14:20:20Z</dcterms:modified>
  <cp:revision>6</cp:revision>
  <dc:subject/>
  <dc:title>Accounting for Economic Growth in China and Japan</dc:title>
</cp:coreProperties>
</file>