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842-998A-40B3-A468-3456349F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D76-F9EA-4D77-9295-D86472B9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62A-1D5F-4BEC-9249-7E5E7DF8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942-F281-43B0-A604-962EC9FD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E62-9664-4583-85A4-4827329A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D12-3720-43D9-B593-7F301D90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89B-F3D3-4BB6-9A1D-BC100C3E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78F-4B80-4B56-B356-030C2409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666-AF64-4315-824F-557CB461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92B-DEC5-4B8F-A8B8-00F11AE8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379-3FBA-41C5-9EB0-FB3FB404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270-72A5-434C-8CED-C39E52F9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27AB-D853-4CB7-83D0-8F65D68DA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o.microsoft.com/fwlink/p/?LinkId=261871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laptopmag.com/t/windows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1523880" y="685800"/>
            <a:ext cx="59436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pgrade p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to 32-b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to 64-bit (requires clean insta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4-bit to 64-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4-bit to 32-bit (requires clean insta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pgrade p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Home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ndows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Starter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ndows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Pro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ndows 10 P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Ultimate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indows 10 P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Enterpri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no free up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volume licen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no free upgrad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2640" y="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an you upgra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heck compatibility with Microsoft Upgrade Assistant (just check, don’t use this to upgrad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go.microsoft.com/fwlink/p/?LinkId=26187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Hardware compati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P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Graphics car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ftware compatibi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Quick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QuickBook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ther older progra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2640" y="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pgrade nag scr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Me\Desktop\get-windows-10-free-upgrade-icon-100588298-primary_idge.jpg"/>
          <p:cNvPicPr/>
          <p:nvPr/>
        </p:nvPicPr>
        <p:blipFill>
          <a:blip r:embed="rId1"/>
          <a:stretch/>
        </p:blipFill>
        <p:spPr>
          <a:xfrm>
            <a:off x="590400" y="1371600"/>
            <a:ext cx="787428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2640" y="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pgrade nag scr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4"/>
          <p:cNvSpPr/>
          <p:nvPr/>
        </p:nvSpPr>
        <p:spPr>
          <a:xfrm>
            <a:off x="533520" y="114300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Me\Desktop\W10_upgrade-notification.png"/>
          <p:cNvPicPr/>
          <p:nvPr/>
        </p:nvPicPr>
        <p:blipFill>
          <a:blip r:embed="rId1"/>
          <a:stretch/>
        </p:blipFill>
        <p:spPr>
          <a:xfrm>
            <a:off x="531720" y="1447920"/>
            <a:ext cx="8245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Me\Desktop\silly_computer_repair_cartoon_laptop_with_wrench_photosculpture-rbacfe7f43dfa443084f9a5550fff6d99_x7saw_8byvr_512.jpg"/>
          <p:cNvPicPr/>
          <p:nvPr/>
        </p:nvPicPr>
        <p:blipFill>
          <a:blip r:embed="rId1"/>
          <a:stretch/>
        </p:blipFill>
        <p:spPr>
          <a:xfrm>
            <a:off x="5334120" y="3276720"/>
            <a:ext cx="3705120" cy="370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efore you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ck up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ck hard drive for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eck for vir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 a system bac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fter you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4"/>
          <p:cNvSpPr/>
          <p:nvPr/>
        </p:nvSpPr>
        <p:spPr>
          <a:xfrm>
            <a:off x="533520" y="10666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Windows 10 repair CD or flash 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ll start menu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urn off lock scr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d icon for Show Desk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ug security h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ck that printer is default and it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form full system back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urn off One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ll games (Solitaire, etc.) if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x sharing settings and browser add-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Me\Desktop\windows-10_logon-screen_disabled.jpg"/>
          <p:cNvPicPr/>
          <p:nvPr/>
        </p:nvPicPr>
        <p:blipFill>
          <a:blip r:embed="rId1"/>
          <a:stretch/>
        </p:blipFill>
        <p:spPr>
          <a:xfrm>
            <a:off x="914400" y="1447920"/>
            <a:ext cx="7324560" cy="532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g in scre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:\Users\Me\Desktop\windows-10-desktop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pps vs. 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Me\Desktop\1.jpg"/>
          <p:cNvPicPr/>
          <p:nvPr/>
        </p:nvPicPr>
        <p:blipFill>
          <a:blip r:embed="rId1"/>
          <a:stretch/>
        </p:blipFill>
        <p:spPr>
          <a:xfrm>
            <a:off x="6467400" y="1676520"/>
            <a:ext cx="3828960" cy="4352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62120" y="175248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s run on phones, tablets and compu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lications are programs for compu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lications are more co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09480" y="243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y for pri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l version of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e upgrade until July 29,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s on most computers &lt; 6 years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ndows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4"/>
          <p:cNvSpPr/>
          <p:nvPr/>
        </p:nvSpPr>
        <p:spPr>
          <a:xfrm>
            <a:off x="685800" y="213372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6858000" y="193680"/>
            <a:ext cx="1828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w i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Me\Desktop\536x286xhtf3_png_pagespeed_ic_9g88cqqC38.jpg"/>
          <p:cNvPicPr/>
          <p:nvPr/>
        </p:nvPicPr>
        <p:blipFill>
          <a:blip r:embed="rId1"/>
          <a:stretch/>
        </p:blipFill>
        <p:spPr>
          <a:xfrm>
            <a:off x="533520" y="1905120"/>
            <a:ext cx="8013600" cy="1447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614960" y="5326200"/>
            <a:ext cx="318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l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net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6189480" y="4788000"/>
            <a:ext cx="29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y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wnload ap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Straight Arrow Connector 6"/>
          <p:cNvCxnSpPr/>
          <p:nvPr/>
        </p:nvCxnSpPr>
        <p:spPr>
          <a:xfrm flipV="1">
            <a:off x="2966760" y="3382200"/>
            <a:ext cx="1080" cy="19738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Straight Arrow Connector 10"/>
          <p:cNvCxnSpPr/>
          <p:nvPr/>
        </p:nvCxnSpPr>
        <p:spPr>
          <a:xfrm flipH="1" flipV="1">
            <a:off x="6324120" y="3428280"/>
            <a:ext cx="1524960" cy="107244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Box 14"/>
          <p:cNvSpPr/>
          <p:nvPr/>
        </p:nvSpPr>
        <p:spPr>
          <a:xfrm>
            <a:off x="4451040" y="4249800"/>
            <a:ext cx="169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15"/>
          <p:cNvCxnSpPr/>
          <p:nvPr/>
        </p:nvCxnSpPr>
        <p:spPr>
          <a:xfrm flipH="1" flipV="1">
            <a:off x="4636800" y="3402720"/>
            <a:ext cx="545040" cy="84708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Box 20"/>
          <p:cNvSpPr/>
          <p:nvPr/>
        </p:nvSpPr>
        <p:spPr>
          <a:xfrm>
            <a:off x="291240" y="420228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sk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1"/>
          <p:cNvCxnSpPr>
            <a:stCxn id="113" idx="0"/>
          </p:cNvCxnSpPr>
          <p:nvPr/>
        </p:nvCxnSpPr>
        <p:spPr>
          <a:xfrm flipH="1" flipV="1">
            <a:off x="1240920" y="3401280"/>
            <a:ext cx="45360" cy="801000"/>
          </a:xfrm>
          <a:prstGeom prst="straightConnector1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ew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PC (was My Compu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Edge (was Internet Explor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C settings (Windows 10 control pan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update – moved to PC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olling back to Windows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sy within 3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rder after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ore Windows 7 system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ean inst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trolling Windows up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 wired ethernet, cannot be dis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postponed for several mon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 recomm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 WiFi, can designate as metered conn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al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mmended at least once a 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ndows 7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ual install and down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ave to re-install after every service pack (build) upgrade, about twice a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tana personal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Me\Desktop\cortanainterface.jpg"/>
          <p:cNvPicPr/>
          <p:nvPr/>
        </p:nvPicPr>
        <p:blipFill>
          <a:blip r:embed="rId1"/>
          <a:stretch/>
        </p:blipFill>
        <p:spPr>
          <a:xfrm>
            <a:off x="533520" y="1905120"/>
            <a:ext cx="811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rtana personal assist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C:\Users\Me\Desktop\cortana3.png"/>
          <p:cNvPicPr/>
          <p:nvPr/>
        </p:nvPicPr>
        <p:blipFill>
          <a:blip r:embed="rId1"/>
          <a:stretch/>
        </p:blipFill>
        <p:spPr>
          <a:xfrm>
            <a:off x="133200" y="1905120"/>
            <a:ext cx="4106880" cy="320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Users\Me\Desktop\cortana 4.png"/>
          <p:cNvPicPr/>
          <p:nvPr/>
        </p:nvPicPr>
        <p:blipFill>
          <a:blip r:embed="rId2"/>
          <a:stretch/>
        </p:blipFill>
        <p:spPr>
          <a:xfrm>
            <a:off x="4724280" y="2362320"/>
            <a:ext cx="4175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abling safe mode on b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afe Mode needed to recover from bad drivers, virus infestation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om elevated command promp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dedit /set {bootmgr} displaybootmenu y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dedit /timeout 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cdedit /set {default} bootmenupolicy leg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nabling safe mode on b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528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t F8 when you see this sc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Me\Desktop\Windows10LegacyBootLoader.png"/>
          <p:cNvPicPr/>
          <p:nvPr/>
        </p:nvPicPr>
        <p:blipFill>
          <a:blip r:embed="rId1"/>
          <a:stretch/>
        </p:blipFill>
        <p:spPr>
          <a:xfrm>
            <a:off x="914400" y="2438280"/>
            <a:ext cx="806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covery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752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ld down shift key while resta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can’t boot, may launch auto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Me\Desktop\Windows10AdvancedOptions.png"/>
          <p:cNvPicPr/>
          <p:nvPr/>
        </p:nvPicPr>
        <p:blipFill>
          <a:blip r:embed="rId1"/>
          <a:stretch/>
        </p:blipFill>
        <p:spPr>
          <a:xfrm>
            <a:off x="1752480" y="3124080"/>
            <a:ext cx="5613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95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-installed on new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mmend local account, not Microsoft lo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grade from Windows 7 or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ep settings, applications and most custom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ean insta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Windows X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se settings and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stallation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4"/>
          <p:cNvSpPr/>
          <p:nvPr/>
        </p:nvSpPr>
        <p:spPr>
          <a:xfrm>
            <a:off x="685800" y="137160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Me\Desktop\Windows10StartupSettings.jpg"/>
          <p:cNvPicPr/>
          <p:nvPr/>
        </p:nvPicPr>
        <p:blipFill>
          <a:blip r:embed="rId1"/>
          <a:stretch/>
        </p:blipFill>
        <p:spPr>
          <a:xfrm>
            <a:off x="1905120" y="228600"/>
            <a:ext cx="5562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Windows 10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start menu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customiza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ystem image back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software on Windows 7,8 and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rd-party software (Acron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mirror hard drives (RAI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secondary backup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ata back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ud bac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oogle 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op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cal bac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ual drop-and-dr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rd-party software (G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ilt in software in Windows 7, 8, and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8000" indent="-180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me Machine (NOT recommend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cal or Microsoft lo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762120" y="17524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cal lo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sier to trouble-shoot and re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use blank pas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lo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nc with One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nc with Live Mail and Outlook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get locked out of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rder to trouble-sh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not use blank pass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 learn m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952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y web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ww.suekayton.c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ick on Windows 10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m’s Guide to Windows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laptopmag.com/t/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suekayton.com/images/Windows-10.png"/>
          <p:cNvPicPr/>
          <p:nvPr/>
        </p:nvPicPr>
        <p:blipFill>
          <a:blip r:embed="rId1"/>
          <a:stretch/>
        </p:blipFill>
        <p:spPr>
          <a:xfrm>
            <a:off x="1523880" y="685800"/>
            <a:ext cx="59436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193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ots much fa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free until July 29,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tana (Similar to Sir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ect new hardware much fa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ward compat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plified backup and recove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y upgra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58360" y="16002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ar and tear on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d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/2 (round plug) mouse or key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d scanner or cam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d software (Quicken, QuickBooks, AutoC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maged hard drive will get w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ssible loss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time due to upgr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tential pitf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58360" y="16002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low internet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install Windows 10 from disk downloaded on machine with fast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ptop with weak bat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ug in to electricity while upgr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ate WiFi as metered conn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inter with parallel port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need to purchase parallel-to-USB adap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longer able to boot directly to Safe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BCDEDIT to enable Safe Mode on bo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ore pitf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360" y="1523520"/>
            <a:ext cx="6057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n’t want to upgra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n’t want the Windows 10 nag scre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dit the registry to disable GWX and disable OS up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voiding the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Me\Desktop\blue-win7-logo-icon-48302.png"/>
          <p:cNvPicPr/>
          <p:nvPr/>
        </p:nvPicPr>
        <p:blipFill>
          <a:blip r:embed="rId1"/>
          <a:stretch/>
        </p:blipFill>
        <p:spPr>
          <a:xfrm>
            <a:off x="6324480" y="41911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ervice pack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jor upgrades twice a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be postponed but not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ute is unusable for 2-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notification or w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Me\Desktop\Android updates 1.png"/>
          <p:cNvPicPr/>
          <p:nvPr/>
        </p:nvPicPr>
        <p:blipFill>
          <a:blip r:embed="rId1"/>
          <a:stretch/>
        </p:blipFill>
        <p:spPr>
          <a:xfrm>
            <a:off x="1295280" y="4267080"/>
            <a:ext cx="1752840" cy="249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Me\Desktop\windows upgrade.jpg"/>
          <p:cNvPicPr/>
          <p:nvPr/>
        </p:nvPicPr>
        <p:blipFill>
          <a:blip r:embed="rId2"/>
          <a:stretch/>
        </p:blipFill>
        <p:spPr>
          <a:xfrm>
            <a:off x="4148280" y="4027320"/>
            <a:ext cx="42256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Users\Me\Desktop\Picture1.jpg"/>
          <p:cNvPicPr/>
          <p:nvPr/>
        </p:nvPicPr>
        <p:blipFill>
          <a:blip r:embed="rId1"/>
          <a:stretch/>
        </p:blipFill>
        <p:spPr>
          <a:xfrm>
            <a:off x="304920" y="3124080"/>
            <a:ext cx="542448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ase of up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4"/>
          <p:cNvSpPr/>
          <p:nvPr/>
        </p:nvSpPr>
        <p:spPr>
          <a:xfrm>
            <a:off x="533520" y="1295280"/>
            <a:ext cx="7848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685800" y="1905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special knowledge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kes about 2-4 hours for typical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suekayton.com/images/Windows-10.png"/>
          <p:cNvPicPr/>
          <p:nvPr/>
        </p:nvPicPr>
        <p:blipFill>
          <a:blip r:embed="rId2"/>
          <a:stretch/>
        </p:blipFill>
        <p:spPr>
          <a:xfrm>
            <a:off x="6402240" y="3505320"/>
            <a:ext cx="2513160" cy="2514600"/>
          </a:xfrm>
          <a:prstGeom prst="rect">
            <a:avLst/>
          </a:prstGeom>
          <a:ln w="0">
            <a:noFill/>
          </a:ln>
        </p:spPr>
      </p:pic>
      <p:cxnSp>
        <p:nvCxnSpPr>
          <p:cNvPr id="72" name="Straight Arrow Connector 2"/>
          <p:cNvCxnSpPr/>
          <p:nvPr/>
        </p:nvCxnSpPr>
        <p:spPr>
          <a:xfrm>
            <a:off x="4800600" y="5265360"/>
            <a:ext cx="1372320" cy="1080"/>
          </a:xfrm>
          <a:prstGeom prst="straightConnector1">
            <a:avLst/>
          </a:prstGeom>
          <a:ln w="954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Straight Connector 3"/>
          <p:cNvSpPr/>
          <p:nvPr/>
        </p:nvSpPr>
        <p:spPr>
          <a:xfrm>
            <a:off x="1828800" y="5105520"/>
            <a:ext cx="914400" cy="761760"/>
          </a:xfrm>
          <a:prstGeom prst="line">
            <a:avLst/>
          </a:prstGeom>
          <a:ln w="82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9"/>
          <p:cNvSpPr/>
          <p:nvPr/>
        </p:nvSpPr>
        <p:spPr>
          <a:xfrm flipV="1">
            <a:off x="1631880" y="5257800"/>
            <a:ext cx="1187640" cy="457200"/>
          </a:xfrm>
          <a:prstGeom prst="line">
            <a:avLst/>
          </a:prstGeom>
          <a:ln w="82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03:47:38Z</dcterms:created>
  <dc:creator>Me</dc:creator>
  <dc:description/>
  <dc:language>en-US</dc:language>
  <cp:lastModifiedBy>Me</cp:lastModifiedBy>
  <dcterms:modified xsi:type="dcterms:W3CDTF">2016-06-05T16:47:34Z</dcterms:modified>
  <cp:revision>31</cp:revision>
  <dc:subject/>
  <dc:title>PowerPoint Presentation</dc:title>
</cp:coreProperties>
</file>