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D7E-AF21-45CB-BF6B-C1F1415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0FA-8C68-4AB0-A396-E6A5792B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079-85BD-4E1D-BC10-DB1E6473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390-973F-450D-9D7B-54FF94E3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0D2-4A08-49C0-8035-18BCA2A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C6B-F8B9-4D85-9B2A-DFAF5ED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31B-8F9E-4D19-B2F1-9FF05EA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244-4823-4926-AAEE-86419089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C98-C730-4FFA-A497-EAD93229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769-EE6C-496B-8679-FAA77C36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FE6-D005-4927-AE71-7A0D690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365-B433-40EC-BFE9-52F15853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5E4-3119-4FF1-A38A-573F726A4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icrosoft.com/fwlink/p/?LinkId=261871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aptopmag.com/t/windows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to 32-b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to 64-bit (requires clean inst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4-bit to 64-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4-bit to 32-bit (requires clean inst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Home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Start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Pro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 P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ltimat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 P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Enterpri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no fre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volume licen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 free upgrad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you up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eck compatibility with Microsoft Upgrade Assistant (just check, don’t use this to upgrad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go.microsoft.com/fwlink/p/?LinkId=26187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ardware compat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raphics c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ftware compat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ic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ick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ther older progra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nag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Me\Desktop\get-windows-10-free-upgrade-icon-100588298-primary_idge.jpg"/>
          <p:cNvPicPr/>
          <p:nvPr/>
        </p:nvPicPr>
        <p:blipFill>
          <a:blip r:embed="rId1"/>
          <a:stretch/>
        </p:blipFill>
        <p:spPr>
          <a:xfrm>
            <a:off x="590400" y="1371600"/>
            <a:ext cx="78742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nag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Me\Desktop\W10_upgrade-notification.png"/>
          <p:cNvPicPr/>
          <p:nvPr/>
        </p:nvPicPr>
        <p:blipFill>
          <a:blip r:embed="rId1"/>
          <a:stretch/>
        </p:blipFill>
        <p:spPr>
          <a:xfrm>
            <a:off x="531720" y="1447920"/>
            <a:ext cx="824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Me\Desktop\silly_computer_repair_cartoon_laptop_with_wrench_photosculpture-rbacfe7f43dfa443084f9a5550fff6d99_x7saw_8byvr_512.jpg"/>
          <p:cNvPicPr/>
          <p:nvPr/>
        </p:nvPicPr>
        <p:blipFill>
          <a:blip r:embed="rId1"/>
          <a:stretch/>
        </p:blipFill>
        <p:spPr>
          <a:xfrm>
            <a:off x="5334120" y="3276720"/>
            <a:ext cx="3705120" cy="370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fore you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ck hard drive for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ck for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a system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fter you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Windows 10 repair CD or flash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ll start menu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n off lock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icon for Show Desk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ug security h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ck that printer is default and it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 full system ba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n off One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ll games (Solitaire, etc.) if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 sharing settings and browser add-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Me\Desktop\windows-10_logon-screen_disabled.jpg"/>
          <p:cNvPicPr/>
          <p:nvPr/>
        </p:nvPicPr>
        <p:blipFill>
          <a:blip r:embed="rId1"/>
          <a:stretch/>
        </p:blipFill>
        <p:spPr>
          <a:xfrm>
            <a:off x="914400" y="1447920"/>
            <a:ext cx="7324560" cy="532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Me\Desktop\windows-10-desktop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s vs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Me\Desktop\1.jpg"/>
          <p:cNvPicPr/>
          <p:nvPr/>
        </p:nvPicPr>
        <p:blipFill>
          <a:blip r:embed="rId1"/>
          <a:stretch/>
        </p:blipFill>
        <p:spPr>
          <a:xfrm>
            <a:off x="6467400" y="1676520"/>
            <a:ext cx="3828960" cy="435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62120" y="175248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s run on phones, tablets and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s are programs for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s are mor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y for pri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 version of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upgrade until July 29,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s on most computers &lt;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4"/>
          <p:cNvSpPr/>
          <p:nvPr/>
        </p:nvSpPr>
        <p:spPr>
          <a:xfrm>
            <a:off x="685800" y="2133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6858000" y="193680"/>
            <a:ext cx="1828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Me\Desktop\536x286xhtf3_png_pagespeed_ic_9g88cqqC38.jpg"/>
          <p:cNvPicPr/>
          <p:nvPr/>
        </p:nvPicPr>
        <p:blipFill>
          <a:blip r:embed="rId1"/>
          <a:stretch/>
        </p:blipFill>
        <p:spPr>
          <a:xfrm>
            <a:off x="533520" y="1905120"/>
            <a:ext cx="8013600" cy="14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614960" y="5326200"/>
            <a:ext cx="318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89480" y="4788000"/>
            <a:ext cx="29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y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ap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traight Arrow Connector 6"/>
          <p:cNvCxnSpPr/>
          <p:nvPr/>
        </p:nvCxnSpPr>
        <p:spPr>
          <a:xfrm flipV="1">
            <a:off x="2966760" y="3382200"/>
            <a:ext cx="1080" cy="19738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Straight Arrow Connector 10"/>
          <p:cNvCxnSpPr/>
          <p:nvPr/>
        </p:nvCxnSpPr>
        <p:spPr>
          <a:xfrm flipH="1" flipV="1">
            <a:off x="6324120" y="3428280"/>
            <a:ext cx="1524960" cy="10724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14"/>
          <p:cNvSpPr/>
          <p:nvPr/>
        </p:nvSpPr>
        <p:spPr>
          <a:xfrm>
            <a:off x="4451040" y="42498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 flipH="1" flipV="1">
            <a:off x="4636800" y="3402720"/>
            <a:ext cx="545040" cy="8470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Box 20"/>
          <p:cNvSpPr/>
          <p:nvPr/>
        </p:nvSpPr>
        <p:spPr>
          <a:xfrm>
            <a:off x="291240" y="420228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1"/>
          <p:cNvCxnSpPr>
            <a:stCxn id="113" idx="0"/>
          </p:cNvCxnSpPr>
          <p:nvPr/>
        </p:nvCxnSpPr>
        <p:spPr>
          <a:xfrm flipH="1" flipV="1">
            <a:off x="1240920" y="3401280"/>
            <a:ext cx="45360" cy="8010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PC (was My Compu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 (was Internet Explor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 settings (Windows 10 control pan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pdate – moved to PC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lling back to Windows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y within 3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de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ore Windows 7 system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ean ins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rolling Windows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wired ethernet, cannot be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postponed for several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recomm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WiFi, can designate as metered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ed at least once a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7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ual install and down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to re-install after every service pack (build) upgrade, about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Me\Desktop\cortanainterface.jpg"/>
          <p:cNvPicPr/>
          <p:nvPr/>
        </p:nvPicPr>
        <p:blipFill>
          <a:blip r:embed="rId1"/>
          <a:stretch/>
        </p:blipFill>
        <p:spPr>
          <a:xfrm>
            <a:off x="533520" y="1905120"/>
            <a:ext cx="811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C:\Users\Me\Desktop\cortana3.png"/>
          <p:cNvPicPr/>
          <p:nvPr/>
        </p:nvPicPr>
        <p:blipFill>
          <a:blip r:embed="rId1"/>
          <a:stretch/>
        </p:blipFill>
        <p:spPr>
          <a:xfrm>
            <a:off x="133200" y="1905120"/>
            <a:ext cx="410688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Me\Desktop\cortana 4.png"/>
          <p:cNvPicPr/>
          <p:nvPr/>
        </p:nvPicPr>
        <p:blipFill>
          <a:blip r:embed="rId2"/>
          <a:stretch/>
        </p:blipFill>
        <p:spPr>
          <a:xfrm>
            <a:off x="4724280" y="2362320"/>
            <a:ext cx="417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 Mode needed to recover from bad drivers, virus infestation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elevated command promp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bootmgr} displaybootmenu 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timeou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default} bootmenupolicy leg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528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 F8 when you see this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Me\Desktop\Windows10LegacyBootLoader.png"/>
          <p:cNvPicPr/>
          <p:nvPr/>
        </p:nvPicPr>
        <p:blipFill>
          <a:blip r:embed="rId1"/>
          <a:stretch/>
        </p:blipFill>
        <p:spPr>
          <a:xfrm>
            <a:off x="914400" y="2438280"/>
            <a:ext cx="806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overy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 down shift key while resta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can’t boot, may launch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Me\Desktop\Windows10AdvancedOptions.png"/>
          <p:cNvPicPr/>
          <p:nvPr/>
        </p:nvPicPr>
        <p:blipFill>
          <a:blip r:embed="rId1"/>
          <a:stretch/>
        </p:blipFill>
        <p:spPr>
          <a:xfrm>
            <a:off x="1752480" y="3124080"/>
            <a:ext cx="561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95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installed on new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 local account, not Microsoft lo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grade from Windows 7 or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ep settings, applications and most custom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ean inst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Windows X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e settings and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stallation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4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Me\Desktop\Windows10StartupSettings.jpg"/>
          <p:cNvPicPr/>
          <p:nvPr/>
        </p:nvPicPr>
        <p:blipFill>
          <a:blip r:embed="rId1"/>
          <a:stretch/>
        </p:blipFill>
        <p:spPr>
          <a:xfrm>
            <a:off x="1905120" y="228600"/>
            <a:ext cx="5562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Windows 10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start menu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customiza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ystem image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software on Windows 7,8 and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Acron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mirror hard drives (RA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econdary backup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ud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gle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drop-and-dr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G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 in software in Windows 7, 8, and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e Machine (NOT recomme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cal or Microsoft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er to trouble-shoot and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with One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with Live Mail and Outlook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et locked out of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der to trouble-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 learn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web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suekayto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on Windows 10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m’s Guide to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aptopmag.com/t/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19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ots much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free until July 29,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ana (Similar to Sir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ct new hardware much f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ward 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ified backup and reco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up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5836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ar and tear on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/2 (round plug) mouse or ke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scanner or cam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software (Quicken, QuickBooks, AutoC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ged hard drive will get w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sible los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time due to upgr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tential pitf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5836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ow internet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install Windows 10 from disk downloaded on machine with fast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ptop with weak bat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g in to electricity while upgr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ate WiFi as metered 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nter with parallel por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eed to purchase parallel-to-USB adap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longer able to boot directly to Safe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BCDEDIT to enable Safe Mode on b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pitf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360" y="1523520"/>
            <a:ext cx="6057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want to upgr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want the Windows 10 nag scre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dit the registry to disable GWX and disable OS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voiding the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Me\Desktop\blue-win7-logo-icon-48302.png"/>
          <p:cNvPicPr/>
          <p:nvPr/>
        </p:nvPicPr>
        <p:blipFill>
          <a:blip r:embed="rId1"/>
          <a:stretch/>
        </p:blipFill>
        <p:spPr>
          <a:xfrm>
            <a:off x="6324480" y="41911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rvice pack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jor upgrades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postponed but not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ute is unusable for 2-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notification or w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Me\Desktop\Android updates 1.png"/>
          <p:cNvPicPr/>
          <p:nvPr/>
        </p:nvPicPr>
        <p:blipFill>
          <a:blip r:embed="rId1"/>
          <a:stretch/>
        </p:blipFill>
        <p:spPr>
          <a:xfrm>
            <a:off x="1295280" y="4267080"/>
            <a:ext cx="1752840" cy="249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Me\Desktop\windows upgrade.jpg"/>
          <p:cNvPicPr/>
          <p:nvPr/>
        </p:nvPicPr>
        <p:blipFill>
          <a:blip r:embed="rId2"/>
          <a:stretch/>
        </p:blipFill>
        <p:spPr>
          <a:xfrm>
            <a:off x="4148280" y="4027320"/>
            <a:ext cx="4225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Me\Desktop\Picture1.jpg"/>
          <p:cNvPicPr/>
          <p:nvPr/>
        </p:nvPicPr>
        <p:blipFill>
          <a:blip r:embed="rId1"/>
          <a:stretch/>
        </p:blipFill>
        <p:spPr>
          <a:xfrm>
            <a:off x="304920" y="3124080"/>
            <a:ext cx="542448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ase of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85800" y="1905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special knowledg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es about 2-4 hours for typical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suekayton.com/images/Windows-10.png"/>
          <p:cNvPicPr/>
          <p:nvPr/>
        </p:nvPicPr>
        <p:blipFill>
          <a:blip r:embed="rId2"/>
          <a:stretch/>
        </p:blipFill>
        <p:spPr>
          <a:xfrm>
            <a:off x="6402240" y="3505320"/>
            <a:ext cx="2513160" cy="25146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2"/>
          <p:cNvCxnSpPr/>
          <p:nvPr/>
        </p:nvCxnSpPr>
        <p:spPr>
          <a:xfrm>
            <a:off x="4800600" y="5265360"/>
            <a:ext cx="1372320" cy="1080"/>
          </a:xfrm>
          <a:prstGeom prst="straightConnector1">
            <a:avLst/>
          </a:prstGeom>
          <a:ln w="954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Straight Connector 3"/>
          <p:cNvSpPr/>
          <p:nvPr/>
        </p:nvSpPr>
        <p:spPr>
          <a:xfrm>
            <a:off x="1828800" y="5105520"/>
            <a:ext cx="914400" cy="761760"/>
          </a:xfrm>
          <a:prstGeom prst="line">
            <a:avLst/>
          </a:prstGeom>
          <a:ln w="82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9"/>
          <p:cNvSpPr/>
          <p:nvPr/>
        </p:nvSpPr>
        <p:spPr>
          <a:xfrm flipV="1">
            <a:off x="1631880" y="5257800"/>
            <a:ext cx="1187640" cy="457200"/>
          </a:xfrm>
          <a:prstGeom prst="line">
            <a:avLst/>
          </a:prstGeom>
          <a:ln w="82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3:47:38Z</dcterms:created>
  <dc:creator>Me</dc:creator>
  <dc:description/>
  <dc:language>en-US</dc:language>
  <cp:lastModifiedBy>Me</cp:lastModifiedBy>
  <dcterms:modified xsi:type="dcterms:W3CDTF">2016-06-05T16:47:34Z</dcterms:modified>
  <cp:revision>31</cp:revision>
  <dc:subject/>
  <dc:title>PowerPoint Presentation</dc:title>
</cp:coreProperties>
</file>