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25.jpeg" ContentType="image/jpeg"/>
  <Override PartName="/ppt/media/image12.png" ContentType="image/png"/>
  <Override PartName="/ppt/media/image20.jpeg" ContentType="image/jpeg"/>
  <Override PartName="/ppt/media/image23.png" ContentType="image/png"/>
  <Override PartName="/ppt/media/image19.jpeg" ContentType="image/jpeg"/>
  <Override PartName="/ppt/media/image13.jpeg" ContentType="image/jpeg"/>
  <Override PartName="/ppt/media/image4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DDC-9DDC-439E-99F7-ADA0411C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B43-CDE1-496E-807F-1F49539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B54-747A-4D55-B348-20E8412F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2540-DC8F-4C6F-889F-12274C99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11A-1BB3-4DD3-94CC-681FA947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210-DDB1-4F87-8977-C4E894B8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CE0-F89C-4916-86BC-95FDC8B4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1AD-BB68-4D9F-BB9A-F964DAC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999-3373-4814-9CE1-F2B49E7C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8AE-E7FE-4367-B04E-BD8084A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431-C9F9-428A-9EA1-F0663AD8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87A-BA73-4516-94B9-179A881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3580-CEC7-49DF-A2D6-1675F45F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uekayton.com/ComputerPowerPoints/smartTV.wmv" TargetMode="External"/><Relationship Id="rId2" Type="http://schemas.openxmlformats.org/officeDocument/2006/relationships/hyperlink" Target="http://www.suekayton.com/ComputerPowerPoints/browser-on-TV.wmv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8ir6a2hYMw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Compu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end-300x225_jpg_pagespeed_ce_2J3I4gIkPs"/>
          <p:cNvPicPr/>
          <p:nvPr/>
        </p:nvPicPr>
        <p:blipFill>
          <a:blip r:embed="rId1"/>
          <a:stretch/>
        </p:blipFill>
        <p:spPr>
          <a:xfrm>
            <a:off x="1447920" y="21337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DON’T w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w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wiiring_mess"/>
          <p:cNvPicPr/>
          <p:nvPr/>
        </p:nvPicPr>
        <p:blipFill>
          <a:blip r:embed="rId1"/>
          <a:stretch/>
        </p:blipFill>
        <p:spPr>
          <a:xfrm>
            <a:off x="3962520" y="182880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Me\Desktop\istock_000014549317xsmall.jpg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Me\Desktop\imagesN9M868OA.png"/>
          <p:cNvPicPr/>
          <p:nvPr/>
        </p:nvPicPr>
        <p:blipFill>
          <a:blip r:embed="rId1"/>
          <a:stretch/>
        </p:blipFill>
        <p:spPr>
          <a:xfrm>
            <a:off x="685800" y="320760"/>
            <a:ext cx="784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Me\Desktop\2596161408899944332.png"/>
          <p:cNvPicPr/>
          <p:nvPr/>
        </p:nvPicPr>
        <p:blipFill>
          <a:blip r:embed="rId1"/>
          <a:stretch/>
        </p:blipFill>
        <p:spPr>
          <a:xfrm>
            <a:off x="76320" y="1523880"/>
            <a:ext cx="8907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ing data to the c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table computing (move to mobi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ath of the desk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 with tele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ting software (monthly fee) instead of purc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8CE6-8A12-4D48-893A-340FAE40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572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:\Users\Me\Desktop\idc-2016-windows-android-ios-forecast-2.jpg"/>
          <p:cNvPicPr/>
          <p:nvPr/>
        </p:nvPicPr>
        <p:blipFill>
          <a:blip r:embed="rId1"/>
          <a:stretch/>
        </p:blipFill>
        <p:spPr>
          <a:xfrm>
            <a:off x="76320" y="228600"/>
            <a:ext cx="892008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31840" y="6216480"/>
            <a:ext cx="88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cnet.com/news/windows-pcs-to-decline-as-android-apple-devices-ris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odbye, computer.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llo, other applianc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-212760" y="76320"/>
            <a:ext cx="8899560" cy="6235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33960" y="5587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ndle or e-book rea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rt 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abl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44440" y="12952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057400" y="37296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Appli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and receive 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/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parking meters and merch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,000,000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C:\Users\Me\Desktop\Untitled-1.jpg"/>
          <p:cNvPicPr/>
          <p:nvPr/>
        </p:nvPicPr>
        <p:blipFill>
          <a:blip r:embed="rId1"/>
          <a:stretch/>
        </p:blipFill>
        <p:spPr>
          <a:xfrm>
            <a:off x="457200" y="1374840"/>
            <a:ext cx="8109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phone sales worldw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858000" y="6489720"/>
            <a:ext cx="2133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B4B-7C93-452D-85C3-55DBBB96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Me\Desktop\Untitled-1.jpg"/>
          <p:cNvPicPr/>
          <p:nvPr/>
        </p:nvPicPr>
        <p:blipFill>
          <a:blip r:embed="rId1"/>
          <a:stretch/>
        </p:blipFill>
        <p:spPr>
          <a:xfrm>
            <a:off x="76320" y="995400"/>
            <a:ext cx="8915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0120" y="137160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arge phone, almost as big as a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hort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hon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627120" y="11430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029120" y="2743200"/>
            <a:ext cx="511488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6324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p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movies,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short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ph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Users\Me\Desktop\Untitled-1.jpg"/>
          <p:cNvPicPr/>
          <p:nvPr/>
        </p:nvPicPr>
        <p:blipFill>
          <a:blip r:embed="rId1"/>
          <a:stretch/>
        </p:blipFill>
        <p:spPr>
          <a:xfrm>
            <a:off x="4495680" y="1852560"/>
            <a:ext cx="50961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Me\Desktop\Dell-Laptop-Latitude-2-Core-Wifi-Windows-7.jpg"/>
          <p:cNvPicPr/>
          <p:nvPr/>
        </p:nvPicPr>
        <p:blipFill>
          <a:blip r:embed="rId1"/>
          <a:stretch/>
        </p:blipFill>
        <p:spPr>
          <a:xfrm>
            <a:off x="4081320" y="2793960"/>
            <a:ext cx="5080320" cy="4064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32448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sic machines cost $150 - $3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n Windows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4567320" y="3657600"/>
            <a:ext cx="4457520" cy="2990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s like a laptop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$125 - $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Chr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Google Drive /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with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other smart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internet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Docs / Google D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(Word, Excel, Power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and more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9DC-97E9-4CE5-A8AB-CA2470D0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Me\Desktop\googledocs.jpg"/>
          <p:cNvPicPr/>
          <p:nvPr/>
        </p:nvPicPr>
        <p:blipFill>
          <a:blip r:embed="rId1"/>
          <a:stretch/>
        </p:blipFill>
        <p:spPr>
          <a:xfrm>
            <a:off x="5249880" y="2666880"/>
            <a:ext cx="3546360" cy="156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Me\Desktop\Office2013General.jpg"/>
          <p:cNvPicPr/>
          <p:nvPr/>
        </p:nvPicPr>
        <p:blipFill>
          <a:blip r:embed="rId2"/>
          <a:stretch/>
        </p:blipFill>
        <p:spPr>
          <a:xfrm>
            <a:off x="5238720" y="4724280"/>
            <a:ext cx="3568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Me\Desktop\skype-13-700x440.png"/>
          <p:cNvPicPr/>
          <p:nvPr/>
        </p:nvPicPr>
        <p:blipFill>
          <a:blip r:embed="rId1"/>
          <a:stretch/>
        </p:blipFill>
        <p:spPr>
          <a:xfrm>
            <a:off x="169920" y="1295280"/>
            <a:ext cx="8745480" cy="549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Me\Desktop\images.png"/>
          <p:cNvPicPr/>
          <p:nvPr/>
        </p:nvPicPr>
        <p:blipFill>
          <a:blip r:embed="rId2"/>
          <a:stretch/>
        </p:blipFill>
        <p:spPr>
          <a:xfrm>
            <a:off x="3124080" y="152280"/>
            <a:ext cx="236232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 your smart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113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Book re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mart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tab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A3AC-A884-4BCF-B382-EE3191525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Me\Desktop\DSC_4665.jpg"/>
          <p:cNvPicPr/>
          <p:nvPr/>
        </p:nvPicPr>
        <p:blipFill>
          <a:blip r:embed="rId1"/>
          <a:stretch/>
        </p:blipFill>
        <p:spPr>
          <a:xfrm>
            <a:off x="3809880" y="1600200"/>
            <a:ext cx="5715000" cy="479268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609480" y="12952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000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Me\Desktop\picture-of-abac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05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wse internet on your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rowser-on-TV.wmv" descr=""/>
          <p:cNvPicPr/>
          <p:nvPr/>
        </p:nvPicPr>
        <p:blipFill>
          <a:blip r:embed="rId1"/>
          <a:stretch/>
        </p:blipFill>
        <p:spPr>
          <a:xfrm>
            <a:off x="1523880" y="1469880"/>
            <a:ext cx="72392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Me\Desktop\device-chromecast-ultra.jpg"/>
          <p:cNvPicPr/>
          <p:nvPr/>
        </p:nvPicPr>
        <p:blipFill>
          <a:blip r:embed="rId1"/>
          <a:stretch/>
        </p:blipFill>
        <p:spPr>
          <a:xfrm>
            <a:off x="5562720" y="2438280"/>
            <a:ext cx="3790800" cy="4238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ld TV into a 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Users\Me\Desktop\A.jpg"/>
          <p:cNvPicPr/>
          <p:nvPr/>
        </p:nvPicPr>
        <p:blipFill>
          <a:blip r:embed="rId2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Users\Me\Desktop\untitled.png"/>
          <p:cNvPicPr/>
          <p:nvPr/>
        </p:nvPicPr>
        <p:blipFill>
          <a:blip r:embed="rId3"/>
          <a:stretch/>
        </p:blipFill>
        <p:spPr>
          <a:xfrm>
            <a:off x="1523880" y="17640"/>
            <a:ext cx="538956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1676160"/>
            <a:ext cx="6934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ld TV into a 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sts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 must have HDMI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Me\Desktop\A.jpg"/>
          <p:cNvPicPr/>
          <p:nvPr/>
        </p:nvPicPr>
        <p:blipFill>
          <a:blip r:embed="rId1"/>
          <a:stretch/>
        </p:blipFill>
        <p:spPr>
          <a:xfrm>
            <a:off x="12952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Me\Desktop\apple-tv-hero-select-201510.jpg"/>
          <p:cNvPicPr/>
          <p:nvPr/>
        </p:nvPicPr>
        <p:blipFill>
          <a:blip r:embed="rId2"/>
          <a:stretch/>
        </p:blipFill>
        <p:spPr>
          <a:xfrm>
            <a:off x="5105520" y="2590920"/>
            <a:ext cx="3884400" cy="3862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Me\Desktop\AppleTV_svg.png"/>
          <p:cNvPicPr/>
          <p:nvPr/>
        </p:nvPicPr>
        <p:blipFill>
          <a:blip r:embed="rId3"/>
          <a:stretch/>
        </p:blipFill>
        <p:spPr>
          <a:xfrm>
            <a:off x="3046320" y="152280"/>
            <a:ext cx="23637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/ Hybrid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– in –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remo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Me\Desktop\Haier-RF-remote-control-uses-Nordic-2_4GHz-ultra-low-power-wireless-for-Smart-TV-and-PC-connectivity.jpg"/>
          <p:cNvPicPr/>
          <p:nvPr/>
        </p:nvPicPr>
        <p:blipFill>
          <a:blip r:embed="rId1"/>
          <a:stretch/>
        </p:blipFill>
        <p:spPr>
          <a:xfrm>
            <a:off x="1600200" y="1676520"/>
            <a:ext cx="59976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Me\Desktop\us__en_us__ibm100__system_360__360genrl__620x350.jpg"/>
          <p:cNvPicPr/>
          <p:nvPr/>
        </p:nvPicPr>
        <p:blipFill>
          <a:blip r:embed="rId1"/>
          <a:stretch/>
        </p:blipFill>
        <p:spPr>
          <a:xfrm>
            <a:off x="-27000" y="4680"/>
            <a:ext cx="91710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ekayton.com/ComputerPowerPoints/smartTV.w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uekayton.com/ComputerPowerPoints/browser-on-TV.w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ice and gestur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28ir6a2hY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 in Compu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trend-300x225_jpg_pagespeed_ce_2J3I4gIkPs"/>
          <p:cNvPicPr/>
          <p:nvPr/>
        </p:nvPicPr>
        <p:blipFill>
          <a:blip r:embed="rId1"/>
          <a:stretch/>
        </p:blipFill>
        <p:spPr>
          <a:xfrm>
            <a:off x="1447920" y="21337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Me\Desktop\screen-shot-2015-04-30-at-12-25-10-pm.png"/>
          <p:cNvPicPr/>
          <p:nvPr/>
        </p:nvPicPr>
        <p:blipFill>
          <a:blip r:embed="rId1"/>
          <a:stretch/>
        </p:blipFill>
        <p:spPr>
          <a:xfrm>
            <a:off x="-150840" y="-457200"/>
            <a:ext cx="949176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90400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Me\Desktop\computersystem2.JPG"/>
          <p:cNvPicPr/>
          <p:nvPr/>
        </p:nvPicPr>
        <p:blipFill>
          <a:blip r:embed="rId1"/>
          <a:stretch/>
        </p:blipFill>
        <p:spPr>
          <a:xfrm>
            <a:off x="685800" y="-396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904000"/>
            <a:ext cx="82296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Me\Desktop\1TS-000E-04MH5-08.jpg"/>
          <p:cNvPicPr/>
          <p:nvPr/>
        </p:nvPicPr>
        <p:blipFill>
          <a:blip r:embed="rId1"/>
          <a:stretch/>
        </p:blipFill>
        <p:spPr>
          <a:xfrm>
            <a:off x="920880" y="446040"/>
            <a:ext cx="692784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Users\Me\Desktop\Large-question-mark-clipart.png"/>
          <p:cNvPicPr/>
          <p:nvPr/>
        </p:nvPicPr>
        <p:blipFill>
          <a:blip r:embed="rId1"/>
          <a:stretch/>
        </p:blipFill>
        <p:spPr>
          <a:xfrm>
            <a:off x="2438280" y="380880"/>
            <a:ext cx="40338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RIP"/>
          <p:cNvPicPr/>
          <p:nvPr/>
        </p:nvPicPr>
        <p:blipFill>
          <a:blip r:embed="rId1"/>
          <a:stretch/>
        </p:blipFill>
        <p:spPr>
          <a:xfrm>
            <a:off x="2286000" y="152280"/>
            <a:ext cx="5105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84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w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6324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book / social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, TV a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 an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-based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books and news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typing and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609480" y="11430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1:49:51Z</dcterms:created>
  <dc:creator>Me</dc:creator>
  <dc:description/>
  <dc:language>en-US</dc:language>
  <cp:lastModifiedBy>Me</cp:lastModifiedBy>
  <dcterms:modified xsi:type="dcterms:W3CDTF">2016-12-12T23:10:01Z</dcterms:modified>
  <cp:revision>44</cp:revision>
  <dc:subject/>
  <dc:title>Trends in Computing January 2012</dc:title>
</cp:coreProperties>
</file>