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png" ContentType="image/png"/>
  <Override PartName="/ppt/media/image21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25.jpeg" ContentType="image/jpeg"/>
  <Override PartName="/ppt/media/image12.png" ContentType="image/png"/>
  <Override PartName="/ppt/media/image20.jpeg" ContentType="image/jpeg"/>
  <Override PartName="/ppt/media/image23.png" ContentType="image/png"/>
  <Override PartName="/ppt/media/image19.jpeg" ContentType="image/jpeg"/>
  <Override PartName="/ppt/media/image13.jpeg" ContentType="image/jpeg"/>
  <Override PartName="/ppt/media/image40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FE1A-2338-4C31-88DF-A02C6C42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F74B-CA02-43A1-ADE8-A38ABE06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F8F5-FAC0-4CF4-BB6E-A4E8B4BD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24C8-BF7D-461A-8592-0E8C9BD6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F753-A56E-4F6B-84CC-ADDCBF5B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823-E398-46DA-9741-D9FA5D6C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D5CD-786B-46C6-84C8-36B7C150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8886-9C97-4A21-9020-14A60D8D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D7EE-15A8-461A-B1F5-6FD9EDF4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89F2-AB49-4D48-9C2F-C2B05D74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CBC3-DA71-46A9-8BA7-E7879A63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2E1-6446-4143-839B-E2222705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7C0A-4FDD-43FC-B2C7-B5211D0F1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suekayton.com/ComputerPowerPoints/smartTV.wmv" TargetMode="External"/><Relationship Id="rId2" Type="http://schemas.openxmlformats.org/officeDocument/2006/relationships/hyperlink" Target="http://www.suekayton.com/ComputerPowerPoints/browser-on-TV.wmv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28ir6a2hYMw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nds in Compu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ember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trend-300x225_jpg_pagespeed_ce_2J3I4gIkPs"/>
          <p:cNvPicPr/>
          <p:nvPr/>
        </p:nvPicPr>
        <p:blipFill>
          <a:blip r:embed="rId1"/>
          <a:stretch/>
        </p:blipFill>
        <p:spPr>
          <a:xfrm>
            <a:off x="1447920" y="213372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 DON’T w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 fail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ing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ding $$$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w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wiiring_mess"/>
          <p:cNvPicPr/>
          <p:nvPr/>
        </p:nvPicPr>
        <p:blipFill>
          <a:blip r:embed="rId1"/>
          <a:stretch/>
        </p:blipFill>
        <p:spPr>
          <a:xfrm>
            <a:off x="3962520" y="1828800"/>
            <a:ext cx="5181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Me\Desktop\istock_000014549317xsmall.jpg"/>
          <p:cNvPicPr/>
          <p:nvPr/>
        </p:nvPicPr>
        <p:blipFill>
          <a:blip r:embed="rId1"/>
          <a:stretch/>
        </p:blipFill>
        <p:spPr>
          <a:xfrm>
            <a:off x="533520" y="1371600"/>
            <a:ext cx="79246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Users\Me\Desktop\imagesN9M868OA.png"/>
          <p:cNvPicPr/>
          <p:nvPr/>
        </p:nvPicPr>
        <p:blipFill>
          <a:blip r:embed="rId1"/>
          <a:stretch/>
        </p:blipFill>
        <p:spPr>
          <a:xfrm>
            <a:off x="685800" y="320760"/>
            <a:ext cx="7848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 auto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609480" y="12193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C:\Users\Me\Desktop\2596161408899944332.png"/>
          <p:cNvPicPr/>
          <p:nvPr/>
        </p:nvPicPr>
        <p:blipFill>
          <a:blip r:embed="rId1"/>
          <a:stretch/>
        </p:blipFill>
        <p:spPr>
          <a:xfrm>
            <a:off x="76320" y="1523880"/>
            <a:ext cx="89074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ving data to the clo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table computing (move to mobi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eath of the deskt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ration with tele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ting software (monthly fee) instead of purc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3633-A22E-46B5-BBC0-B2DF37D75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57200" y="106668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C:\Users\Me\Desktop\idc-2016-windows-android-ios-forecast-2.jpg"/>
          <p:cNvPicPr/>
          <p:nvPr/>
        </p:nvPicPr>
        <p:blipFill>
          <a:blip r:embed="rId1"/>
          <a:stretch/>
        </p:blipFill>
        <p:spPr>
          <a:xfrm>
            <a:off x="76320" y="228600"/>
            <a:ext cx="8920080" cy="579132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231840" y="6216480"/>
            <a:ext cx="88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www.cnet.com/news/windows-pcs-to-decline-as-android-apple-devices-ris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oodbye, computer.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ello, other applianc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-212760" y="76320"/>
            <a:ext cx="8899560" cy="62355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933960" y="558756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5562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abl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mart T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indle or e-book rea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mart ph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abl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44440" y="129528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2057400" y="37296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formation Appl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6629400" y="1508040"/>
            <a:ext cx="2577960" cy="4267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ph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752120"/>
            <a:ext cx="68580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s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and receive em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s /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parking meters and merch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609480" y="137160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,000,000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C:\Users\Me\Desktop\Untitled-1.jpg"/>
          <p:cNvPicPr/>
          <p:nvPr/>
        </p:nvPicPr>
        <p:blipFill>
          <a:blip r:embed="rId1"/>
          <a:stretch/>
        </p:blipFill>
        <p:spPr>
          <a:xfrm>
            <a:off x="457200" y="1374840"/>
            <a:ext cx="8109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phone sales worldw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858000" y="6489720"/>
            <a:ext cx="21337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BE92-46B4-4CA9-9944-379810D26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C:\Users\Me\Desktop\Untitled-1.jpg"/>
          <p:cNvPicPr/>
          <p:nvPr/>
        </p:nvPicPr>
        <p:blipFill>
          <a:blip r:embed="rId1"/>
          <a:stretch/>
        </p:blipFill>
        <p:spPr>
          <a:xfrm>
            <a:off x="76320" y="995400"/>
            <a:ext cx="89154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2282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b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0120" y="137160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arge phone, almost as big as a tab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ption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movies,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to 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em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short em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s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ph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phon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627120" y="114300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4029120" y="2743200"/>
            <a:ext cx="511488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6324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ption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movies,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to 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em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short em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s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ph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:\Users\Me\Desktop\Untitled-1.jpg"/>
          <p:cNvPicPr/>
          <p:nvPr/>
        </p:nvPicPr>
        <p:blipFill>
          <a:blip r:embed="rId1"/>
          <a:stretch/>
        </p:blipFill>
        <p:spPr>
          <a:xfrm>
            <a:off x="4495680" y="1852560"/>
            <a:ext cx="50961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Me\Desktop\Dell-Laptop-Latitude-2-Core-Wifi-Windows-7.jpg"/>
          <p:cNvPicPr/>
          <p:nvPr/>
        </p:nvPicPr>
        <p:blipFill>
          <a:blip r:embed="rId1"/>
          <a:stretch/>
        </p:blipFill>
        <p:spPr>
          <a:xfrm>
            <a:off x="4081320" y="2793960"/>
            <a:ext cx="5080320" cy="40640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top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632448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sic machines cost $150 - $3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as a keybo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un Windows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4567320" y="3657600"/>
            <a:ext cx="4457520" cy="29908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6324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s like a laptop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s $125 - $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 key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Chrome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Google Drive /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 with Drop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other smartphone a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internet to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ud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Docs / Google Dr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(Word, Excel, PowerPo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e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confer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and more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668A-4F62-4352-AB86-70177C24A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457200" y="11430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Users\Me\Desktop\googledocs.jpg"/>
          <p:cNvPicPr/>
          <p:nvPr/>
        </p:nvPicPr>
        <p:blipFill>
          <a:blip r:embed="rId1"/>
          <a:stretch/>
        </p:blipFill>
        <p:spPr>
          <a:xfrm>
            <a:off x="5249880" y="2666880"/>
            <a:ext cx="3546360" cy="1567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C:\Users\Me\Desktop\Office2013General.jpg"/>
          <p:cNvPicPr/>
          <p:nvPr/>
        </p:nvPicPr>
        <p:blipFill>
          <a:blip r:embed="rId2"/>
          <a:stretch/>
        </p:blipFill>
        <p:spPr>
          <a:xfrm>
            <a:off x="5238720" y="4724280"/>
            <a:ext cx="35686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C:\Users\Me\Desktop\skype-13-700x440.png"/>
          <p:cNvPicPr/>
          <p:nvPr/>
        </p:nvPicPr>
        <p:blipFill>
          <a:blip r:embed="rId1"/>
          <a:stretch/>
        </p:blipFill>
        <p:spPr>
          <a:xfrm>
            <a:off x="169920" y="1295280"/>
            <a:ext cx="8745480" cy="5496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Me\Desktop\images.png"/>
          <p:cNvPicPr/>
          <p:nvPr/>
        </p:nvPicPr>
        <p:blipFill>
          <a:blip r:embed="rId2"/>
          <a:stretch/>
        </p:blipFill>
        <p:spPr>
          <a:xfrm>
            <a:off x="3124080" y="152280"/>
            <a:ext cx="236232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k your smartph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959600" cy="4024080"/>
          </a:xfrm>
          <a:prstGeom prst="rect">
            <a:avLst/>
          </a:prstGeom>
          <a:ln w="0">
            <a:noFill/>
          </a:ln>
        </p:spPr>
      </p:pic>
      <p:sp>
        <p:nvSpPr>
          <p:cNvPr id="113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Book rea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dle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smart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lap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tab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2F69-5BBC-4C43-87AD-2E8871DD7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Me\Desktop\DSC_4665.jpg"/>
          <p:cNvPicPr/>
          <p:nvPr/>
        </p:nvPicPr>
        <p:blipFill>
          <a:blip r:embed="rId1"/>
          <a:stretch/>
        </p:blipFill>
        <p:spPr>
          <a:xfrm>
            <a:off x="3809880" y="1600200"/>
            <a:ext cx="5715000" cy="479268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>
            <a:off x="609480" y="129528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mg_keyboard_01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63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,000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Users\Me\Desktop\picture-of-abac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2056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wse internet on your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browser-on-TV.wmv" descr=""/>
          <p:cNvPicPr/>
          <p:nvPr/>
        </p:nvPicPr>
        <p:blipFill>
          <a:blip r:embed="rId1"/>
          <a:stretch/>
        </p:blipFill>
        <p:spPr>
          <a:xfrm>
            <a:off x="1523880" y="1469880"/>
            <a:ext cx="7239240" cy="48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guy on sofa with keyboard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BT_keyboard"/>
          <p:cNvPicPr/>
          <p:nvPr/>
        </p:nvPicPr>
        <p:blipFill>
          <a:blip r:embed="rId1"/>
          <a:stretch/>
        </p:blipFill>
        <p:spPr>
          <a:xfrm>
            <a:off x="304920" y="1752480"/>
            <a:ext cx="8496360" cy="52167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etooth key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smartTV.wmv" descr=""/>
          <p:cNvPicPr/>
          <p:nvPr/>
        </p:nvPicPr>
        <p:blipFill>
          <a:blip r:embed="rId1"/>
          <a:stretch/>
        </p:blipFill>
        <p:spPr>
          <a:xfrm>
            <a:off x="1238400" y="1015920"/>
            <a:ext cx="721980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Me\Desktop\device-chromecast-ultra.jpg"/>
          <p:cNvPicPr/>
          <p:nvPr/>
        </p:nvPicPr>
        <p:blipFill>
          <a:blip r:embed="rId1"/>
          <a:stretch/>
        </p:blipFill>
        <p:spPr>
          <a:xfrm>
            <a:off x="5562720" y="2438280"/>
            <a:ext cx="3790800" cy="4238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6934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old TV into a smart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costs $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V must have HDMI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C:\Users\Me\Desktop\A.jpg"/>
          <p:cNvPicPr/>
          <p:nvPr/>
        </p:nvPicPr>
        <p:blipFill>
          <a:blip r:embed="rId2"/>
          <a:stretch/>
        </p:blipFill>
        <p:spPr>
          <a:xfrm>
            <a:off x="1295280" y="373392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Users\Me\Desktop\untitled.png"/>
          <p:cNvPicPr/>
          <p:nvPr/>
        </p:nvPicPr>
        <p:blipFill>
          <a:blip r:embed="rId3"/>
          <a:stretch/>
        </p:blipFill>
        <p:spPr>
          <a:xfrm>
            <a:off x="1523880" y="17640"/>
            <a:ext cx="5389560" cy="12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28600" y="1676160"/>
            <a:ext cx="6934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old TV into a smart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costs $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V must have HDMI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C:\Users\Me\Desktop\A.jpg"/>
          <p:cNvPicPr/>
          <p:nvPr/>
        </p:nvPicPr>
        <p:blipFill>
          <a:blip r:embed="rId1"/>
          <a:stretch/>
        </p:blipFill>
        <p:spPr>
          <a:xfrm>
            <a:off x="1295280" y="373392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Me\Desktop\apple-tv-hero-select-201510.jpg"/>
          <p:cNvPicPr/>
          <p:nvPr/>
        </p:nvPicPr>
        <p:blipFill>
          <a:blip r:embed="rId2"/>
          <a:stretch/>
        </p:blipFill>
        <p:spPr>
          <a:xfrm>
            <a:off x="5105520" y="2590920"/>
            <a:ext cx="3884400" cy="3862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Users\Me\Desktop\AppleTV_svg.png"/>
          <p:cNvPicPr/>
          <p:nvPr/>
        </p:nvPicPr>
        <p:blipFill>
          <a:blip r:embed="rId3"/>
          <a:stretch/>
        </p:blipFill>
        <p:spPr>
          <a:xfrm>
            <a:off x="3046320" y="152280"/>
            <a:ext cx="236376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 TV / Hybrid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s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 mo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t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– in –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1828800" y="5219640"/>
            <a:ext cx="2247840" cy="1638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4656240" y="1905120"/>
            <a:ext cx="38923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 TV remot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C:\Users\Me\Desktop\Haier-RF-remote-control-uses-Nordic-2_4GHz-ultra-low-power-wireless-for-Smart-TV-and-PC-connectivity.jpg"/>
          <p:cNvPicPr/>
          <p:nvPr/>
        </p:nvPicPr>
        <p:blipFill>
          <a:blip r:embed="rId1"/>
          <a:stretch/>
        </p:blipFill>
        <p:spPr>
          <a:xfrm>
            <a:off x="1600200" y="1676520"/>
            <a:ext cx="599760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Users\Me\Desktop\us__en_us__ibm100__system_360__360genrl__620x350.jpg"/>
          <p:cNvPicPr/>
          <p:nvPr/>
        </p:nvPicPr>
        <p:blipFill>
          <a:blip r:embed="rId1"/>
          <a:stretch/>
        </p:blipFill>
        <p:spPr>
          <a:xfrm>
            <a:off x="-27000" y="4680"/>
            <a:ext cx="91710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 TV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ekayton.com/ComputerPowerPoints/smartTV.w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uekayton.com/ComputerPowerPoints/browser-on-TV.w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 T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ice and gestur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088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28ir6a2hYM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nds in Compu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ember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trend-300x225_jpg_pagespeed_ce_2J3I4gIkPs"/>
          <p:cNvPicPr/>
          <p:nvPr/>
        </p:nvPicPr>
        <p:blipFill>
          <a:blip r:embed="rId1"/>
          <a:stretch/>
        </p:blipFill>
        <p:spPr>
          <a:xfrm>
            <a:off x="1447920" y="213372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Users\Me\Desktop\screen-shot-2015-04-30-at-12-25-10-pm.png"/>
          <p:cNvPicPr/>
          <p:nvPr/>
        </p:nvPicPr>
        <p:blipFill>
          <a:blip r:embed="rId1"/>
          <a:stretch/>
        </p:blipFill>
        <p:spPr>
          <a:xfrm>
            <a:off x="-150840" y="-457200"/>
            <a:ext cx="9491760" cy="76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904000"/>
            <a:ext cx="8229600" cy="87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Me\Desktop\computersystem2.JPG"/>
          <p:cNvPicPr/>
          <p:nvPr/>
        </p:nvPicPr>
        <p:blipFill>
          <a:blip r:embed="rId1"/>
          <a:stretch/>
        </p:blipFill>
        <p:spPr>
          <a:xfrm>
            <a:off x="685800" y="-3960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904000"/>
            <a:ext cx="8229600" cy="87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Me\Desktop\1TS-000E-04MH5-08.jpg"/>
          <p:cNvPicPr/>
          <p:nvPr/>
        </p:nvPicPr>
        <p:blipFill>
          <a:blip r:embed="rId1"/>
          <a:stretch/>
        </p:blipFill>
        <p:spPr>
          <a:xfrm>
            <a:off x="920880" y="446040"/>
            <a:ext cx="692784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Users\Me\Desktop\Large-question-mark-clipart.png"/>
          <p:cNvPicPr/>
          <p:nvPr/>
        </p:nvPicPr>
        <p:blipFill>
          <a:blip r:embed="rId1"/>
          <a:stretch/>
        </p:blipFill>
        <p:spPr>
          <a:xfrm>
            <a:off x="2438280" y="380880"/>
            <a:ext cx="403380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RIP"/>
          <p:cNvPicPr/>
          <p:nvPr/>
        </p:nvPicPr>
        <p:blipFill>
          <a:blip r:embed="rId1"/>
          <a:stretch/>
        </p:blipFill>
        <p:spPr>
          <a:xfrm>
            <a:off x="2286000" y="152280"/>
            <a:ext cx="51055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484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 w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520" y="1294920"/>
            <a:ext cx="6324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brow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book / social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es, TV and 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 and ca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ud-based a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books and news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typing and ed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609480" y="114300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21:49:51Z</dcterms:created>
  <dc:creator>Me</dc:creator>
  <dc:description/>
  <dc:language>en-US</dc:language>
  <cp:lastModifiedBy>Me</cp:lastModifiedBy>
  <dcterms:modified xsi:type="dcterms:W3CDTF">2016-12-12T23:10:01Z</dcterms:modified>
  <cp:revision>44</cp:revision>
  <dc:subject/>
  <dc:title>Trends in Computing January 2012</dc:title>
</cp:coreProperties>
</file>