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1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5.png" ContentType="image/png"/>
  <Override PartName="/ppt/media/image2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5B26-C658-4283-8D01-383DB93DA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F629-4FB1-4751-953D-73627E59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D8E3-7778-40C0-A3BB-64E9AF185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26DB-EB77-4172-8AF3-1BB323A94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FB55-73A0-48E7-B7D2-5500F189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80BC-F72F-44AE-BB42-4423662F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8B94-52A7-4566-8113-BB87F0D3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6E0A-D0FD-4E82-9270-3D110C97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7955-BAEE-44F9-B241-EFD07EDA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502B-A54C-4CFB-842E-3D40E0CB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F951-A6BC-4FF0-A1B5-8709AC16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816E-DF41-4FAB-98D2-FD8C7DF6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6CCF-5269-4588-AA5F-959BEAA7AF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2364-C51D-4C42-95BC-2A4EA70805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www.eff.org/https-everywhere" TargetMode="External"/><Relationship Id="rId2" Type="http://schemas.openxmlformats.org/officeDocument/2006/relationships/hyperlink" Target="https://www.eff.org/privacybadger" TargetMode="External"/><Relationship Id="rId3" Type="http://schemas.openxmlformats.org/officeDocument/2006/relationships/hyperlink" Target="http://flashblock.mozdev.org/" TargetMode="External"/><Relationship Id="rId4" Type="http://schemas.openxmlformats.org/officeDocument/2006/relationships/hyperlink" Target="https://noscript.net/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Users\Me\Desktop\privacy.jpg"/>
          <p:cNvPicPr/>
          <p:nvPr/>
        </p:nvPicPr>
        <p:blipFill>
          <a:blip r:embed="rId1"/>
          <a:stretch/>
        </p:blipFill>
        <p:spPr>
          <a:xfrm>
            <a:off x="0" y="19080"/>
            <a:ext cx="9123480" cy="683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04960" y="1066320"/>
            <a:ext cx="5715000" cy="44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Security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and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privacy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1295280" y="6095880"/>
            <a:ext cx="59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ue Kayton and Michael Barcl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v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B8CC-D1A1-42BF-90AF-1C7BAC1C0AC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ichael’s Security Add-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FF’s   HTTPS Everywhere (Chrome/Firefox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s://www.eff.org/https-everyw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FF’s   Privacy Badger (Chrome/Firefox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s://www.eff.org/privacybadg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r Firefox onl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lashblock,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http://flashblock.mozdev.org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script,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/>
              </a:rPr>
              <a:t>https://noscript.net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Line 4"/>
          <p:cNvSpPr/>
          <p:nvPr/>
        </p:nvSpPr>
        <p:spPr>
          <a:xfrm>
            <a:off x="609480" y="1523880"/>
            <a:ext cx="8001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D797-15AE-48A7-BA29-423CBF83B52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ichael’s Security Add-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ttps://www.eff.org/files/https-everywhere-banner.png"/>
          <p:cNvPicPr/>
          <p:nvPr/>
        </p:nvPicPr>
        <p:blipFill>
          <a:blip r:embed="rId1"/>
          <a:stretch/>
        </p:blipFill>
        <p:spPr>
          <a:xfrm>
            <a:off x="228600" y="1828800"/>
            <a:ext cx="4495680" cy="1833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Privacy Badger"/>
          <p:cNvPicPr/>
          <p:nvPr/>
        </p:nvPicPr>
        <p:blipFill>
          <a:blip r:embed="rId2"/>
          <a:stretch/>
        </p:blipFill>
        <p:spPr>
          <a:xfrm>
            <a:off x="5105520" y="1447920"/>
            <a:ext cx="3004920" cy="2133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http://loadion.com/ii/1909004786_1181e9b1e2.png"/>
          <p:cNvPicPr/>
          <p:nvPr/>
        </p:nvPicPr>
        <p:blipFill>
          <a:blip r:embed="rId3"/>
          <a:stretch/>
        </p:blipFill>
        <p:spPr>
          <a:xfrm>
            <a:off x="1469880" y="3809880"/>
            <a:ext cx="2590920" cy="2451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https://noscript.net/noscript/noscript-10years-small.png"/>
          <p:cNvPicPr/>
          <p:nvPr/>
        </p:nvPicPr>
        <p:blipFill>
          <a:blip r:embed="rId4"/>
          <a:stretch/>
        </p:blipFill>
        <p:spPr>
          <a:xfrm>
            <a:off x="5638680" y="4038480"/>
            <a:ext cx="2598840" cy="2598840"/>
          </a:xfrm>
          <a:prstGeom prst="rect">
            <a:avLst/>
          </a:prstGeom>
          <a:ln w="0">
            <a:noFill/>
          </a:ln>
        </p:spPr>
      </p:pic>
      <p:sp>
        <p:nvSpPr>
          <p:cNvPr id="7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C397-EF35-475A-9726-36B6E2F0B3A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Users\Me\Desktop\images.png"/>
          <p:cNvPicPr/>
          <p:nvPr/>
        </p:nvPicPr>
        <p:blipFill>
          <a:blip r:embed="rId1"/>
          <a:stretch/>
        </p:blipFill>
        <p:spPr>
          <a:xfrm>
            <a:off x="1219320" y="-152280"/>
            <a:ext cx="5486400" cy="7172280"/>
          </a:xfrm>
          <a:prstGeom prst="rect">
            <a:avLst/>
          </a:prstGeom>
          <a:ln w="0">
            <a:noFill/>
          </a:ln>
        </p:spPr>
      </p:pic>
      <p:sp>
        <p:nvSpPr>
          <p:cNvPr id="7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4203-E04B-46D3-A675-F9C32A7CAE3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990720" y="50760"/>
            <a:ext cx="7315200" cy="6899400"/>
          </a:xfrm>
          <a:prstGeom prst="rect">
            <a:avLst/>
          </a:prstGeom>
          <a:ln w="0">
            <a:noFill/>
          </a:ln>
        </p:spPr>
      </p:pic>
      <p:sp>
        <p:nvSpPr>
          <p:cNvPr id="7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EBF1-0B84-4366-89DE-1A735A486C4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628640" y="0"/>
            <a:ext cx="5915160" cy="6891480"/>
          </a:xfrm>
          <a:prstGeom prst="rect">
            <a:avLst/>
          </a:prstGeom>
          <a:ln w="0">
            <a:noFill/>
          </a:ln>
        </p:spPr>
      </p:pic>
      <p:sp>
        <p:nvSpPr>
          <p:cNvPr id="7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2A57-D18B-4B04-9250-15BEC815BE9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Password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440B-6B0E-4EB8-B953-303BEAAC2B7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Users\Me\Desktop\images (5).jpg"/>
          <p:cNvPicPr/>
          <p:nvPr/>
        </p:nvPicPr>
        <p:blipFill>
          <a:blip r:embed="rId1"/>
          <a:stretch/>
        </p:blipFill>
        <p:spPr>
          <a:xfrm>
            <a:off x="1676520" y="0"/>
            <a:ext cx="4800600" cy="6931080"/>
          </a:xfrm>
          <a:prstGeom prst="rect">
            <a:avLst/>
          </a:prstGeom>
          <a:ln w="0">
            <a:noFill/>
          </a:ln>
        </p:spPr>
      </p:pic>
      <p:sp>
        <p:nvSpPr>
          <p:cNvPr id="8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A93C-243A-420F-A64F-BA539A79F41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1828800" y="-42840"/>
            <a:ext cx="5486400" cy="6943680"/>
          </a:xfrm>
          <a:prstGeom prst="rect">
            <a:avLst/>
          </a:prstGeom>
          <a:ln w="0">
            <a:noFill/>
          </a:ln>
        </p:spPr>
      </p:pic>
      <p:sp>
        <p:nvSpPr>
          <p:cNvPr id="8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F49D-2334-442E-89AD-46EF8189A05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Users\Me\Desktop\083526_671638.jpg"/>
          <p:cNvPicPr/>
          <p:nvPr/>
        </p:nvPicPr>
        <p:blipFill>
          <a:blip r:embed="rId1"/>
          <a:stretch/>
        </p:blipFill>
        <p:spPr>
          <a:xfrm>
            <a:off x="-76320" y="-380880"/>
            <a:ext cx="9448920" cy="7391160"/>
          </a:xfrm>
          <a:prstGeom prst="rect">
            <a:avLst/>
          </a:prstGeom>
          <a:ln w="0">
            <a:noFill/>
          </a:ln>
        </p:spPr>
      </p:pic>
      <p:sp>
        <p:nvSpPr>
          <p:cNvPr id="8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5A87-491F-451B-A970-D3EDC66B5FB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Content Placeholder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6126120"/>
          </a:xfrm>
          <a:prstGeom prst="rect">
            <a:avLst/>
          </a:prstGeom>
          <a:ln w="0">
            <a:noFill/>
          </a:ln>
        </p:spPr>
      </p:pic>
      <p:sp>
        <p:nvSpPr>
          <p:cNvPr id="8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BB6F-C4FE-451A-B28A-3BB1F896947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C:\Users\Me\Desktop\images (1).jpg"/>
          <p:cNvPicPr/>
          <p:nvPr/>
        </p:nvPicPr>
        <p:blipFill>
          <a:blip r:embed="rId1"/>
          <a:stretch/>
        </p:blipFill>
        <p:spPr>
          <a:xfrm>
            <a:off x="1676520" y="533520"/>
            <a:ext cx="6248160" cy="5879880"/>
          </a:xfrm>
          <a:prstGeom prst="rect">
            <a:avLst/>
          </a:prstGeom>
          <a:ln w="0">
            <a:noFill/>
          </a:ln>
        </p:spPr>
      </p:pic>
      <p:sp>
        <p:nvSpPr>
          <p:cNvPr id="4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EBB2-BCF9-4B7D-8619-3BBAA7B9451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ceware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orld.std.com/~reinhold/diceware.ht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3" descr=""/>
          <p:cNvPicPr/>
          <p:nvPr/>
        </p:nvPicPr>
        <p:blipFill>
          <a:blip r:embed="rId1"/>
          <a:stretch/>
        </p:blipFill>
        <p:spPr>
          <a:xfrm>
            <a:off x="550800" y="1600200"/>
            <a:ext cx="8042400" cy="4525920"/>
          </a:xfrm>
          <a:prstGeom prst="rect">
            <a:avLst/>
          </a:prstGeom>
          <a:ln w="0">
            <a:noFill/>
          </a:ln>
        </p:spPr>
      </p:pic>
      <p:sp>
        <p:nvSpPr>
          <p:cNvPr id="9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9BD9-AE87-4A21-8E9F-E9923CD6B3C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31680" y="1523880"/>
            <a:ext cx="9144000" cy="2743200"/>
          </a:xfrm>
          <a:prstGeom prst="rect">
            <a:avLst/>
          </a:prstGeom>
          <a:ln w="0">
            <a:noFill/>
          </a:ln>
        </p:spPr>
      </p:pic>
      <p:sp>
        <p:nvSpPr>
          <p:cNvPr id="9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F6ED-C0AE-41A2-A41B-97B1FA900E9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Storing</a:t>
            </a:r>
            <a:br>
              <a:rPr sz="8800"/>
            </a:br>
            <a:r>
              <a:rPr b="1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data safely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57A98-9059-4B21-AE31-7A86DBA33C2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685800" y="0"/>
            <a:ext cx="830592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0AE7-8BB9-4D11-85C3-8006A8914AF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Users\Me\Desktop\images (3).jpg"/>
          <p:cNvPicPr/>
          <p:nvPr/>
        </p:nvPicPr>
        <p:blipFill>
          <a:blip r:embed="rId1"/>
          <a:stretch/>
        </p:blipFill>
        <p:spPr>
          <a:xfrm>
            <a:off x="304920" y="-162000"/>
            <a:ext cx="8961480" cy="7020000"/>
          </a:xfrm>
          <a:prstGeom prst="rect">
            <a:avLst/>
          </a:prstGeom>
          <a:ln w="0">
            <a:noFill/>
          </a:ln>
        </p:spPr>
      </p:pic>
      <p:sp>
        <p:nvSpPr>
          <p:cNvPr id="9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FFAC-22EF-42D3-AD83-96668066FE1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rive encry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C:\Users\Me\Desktop\bitlocker.jpg"/>
          <p:cNvPicPr/>
          <p:nvPr/>
        </p:nvPicPr>
        <p:blipFill>
          <a:blip r:embed="rId1"/>
          <a:stretch/>
        </p:blipFill>
        <p:spPr>
          <a:xfrm>
            <a:off x="4495680" y="2544840"/>
            <a:ext cx="4572000" cy="3932280"/>
          </a:xfrm>
          <a:prstGeom prst="rect">
            <a:avLst/>
          </a:prstGeom>
          <a:ln w="0">
            <a:noFill/>
          </a:ln>
        </p:spPr>
      </p:pic>
      <p:sp>
        <p:nvSpPr>
          <p:cNvPr id="10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2DEE-386A-465B-9E11-2AF52CCAFFA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itle 1"/>
          <p:cNvSpPr/>
          <p:nvPr/>
        </p:nvSpPr>
        <p:spPr>
          <a:xfrm>
            <a:off x="609480" y="2819520"/>
            <a:ext cx="457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 marL="239760" indent="-239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Bit Lock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39760" indent="-239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39760" indent="-239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TrueCryp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ypes of secur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1902-32AA-44C6-B161-A4CC090B338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Content Placeholder 2"/>
          <p:cNvSpPr/>
          <p:nvPr/>
        </p:nvSpPr>
        <p:spPr>
          <a:xfrm>
            <a:off x="322200" y="1768320"/>
            <a:ext cx="86868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tect against outside attack or snoo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 of open WiFi net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tect you from consequences of doing something stup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 careful where you click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iruses, malicious programs and other malw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ss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oring data safely – local or in clou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Snooping</a:t>
            </a:r>
            <a:br>
              <a:rPr sz="8800"/>
            </a:br>
            <a:r>
              <a:rPr b="1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br>
              <a:rPr sz="8800"/>
            </a:br>
            <a:r>
              <a:rPr b="1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outside attack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1C9F-D561-41BC-85EA-086A2F1EC9A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61DF-D08D-4969-9947-203548A2307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139760" y="42840"/>
            <a:ext cx="6864480" cy="6772320"/>
          </a:xfrm>
          <a:prstGeom prst="rect">
            <a:avLst/>
          </a:prstGeom>
          <a:ln w="0">
            <a:noFill/>
          </a:ln>
        </p:spPr>
      </p:pic>
      <p:sp>
        <p:nvSpPr>
          <p:cNvPr id="5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B629-8C2A-4474-9A9F-B8283C36224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-114480" y="304920"/>
            <a:ext cx="9258480" cy="6172200"/>
          </a:xfrm>
          <a:prstGeom prst="rect">
            <a:avLst/>
          </a:prstGeom>
          <a:ln w="0">
            <a:noFill/>
          </a:ln>
        </p:spPr>
      </p:pic>
      <p:sp>
        <p:nvSpPr>
          <p:cNvPr id="5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1702-8496-4364-BFE3-65BF1059499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Doing something stupid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4653-40F3-4FA1-8F40-EBE4F001143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6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33F8-AAA2-4007-9B68-80C15C1C294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8T04:34:43Z</dcterms:created>
  <dc:creator>Student</dc:creator>
  <dc:description/>
  <dc:language>en-US</dc:language>
  <cp:lastModifiedBy>Me</cp:lastModifiedBy>
  <dcterms:modified xsi:type="dcterms:W3CDTF">2016-11-10T05:46:42Z</dcterms:modified>
  <cp:revision>31</cp:revision>
  <dc:subject/>
  <dc:title>Security and privacy</dc:title>
</cp:coreProperties>
</file>