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5.png" ContentType="image/png"/>
  <Override PartName="/ppt/media/image2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7973-51F5-4472-8211-1525B461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D6B9-A4E2-42A5-8717-D6B04C8B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592C-84FC-4CB3-BFAA-143B988C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FF96-FC26-410D-A7C7-2E09E29A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2165-2EDB-4CF4-8AA8-1E5FA300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C5D2-E0FB-4161-9182-8D7825E2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EAFC-79E7-47A5-8CC5-B3B83168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0044-347D-47A8-93B0-807106D2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9073-96FF-4DDD-8030-843ACFB6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1FCB-DC16-4CA5-BDB5-D8C036E3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CF2E-2D2B-4C98-A640-A72E27B4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5126-5B54-446D-9DA5-83919A8A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11BE-0842-4443-A455-D1A86239D9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410C-B451-4E36-B9CF-5BFB47E05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eff.org/https-everywhere" TargetMode="External"/><Relationship Id="rId2" Type="http://schemas.openxmlformats.org/officeDocument/2006/relationships/hyperlink" Target="https://www.eff.org/privacybadger" TargetMode="External"/><Relationship Id="rId3" Type="http://schemas.openxmlformats.org/officeDocument/2006/relationships/hyperlink" Target="http://flashblock.mozdev.org/" TargetMode="External"/><Relationship Id="rId4" Type="http://schemas.openxmlformats.org/officeDocument/2006/relationships/hyperlink" Target="https://noscript.net/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Users\Me\Desktop\privacy.jpg"/>
          <p:cNvPicPr/>
          <p:nvPr/>
        </p:nvPicPr>
        <p:blipFill>
          <a:blip r:embed="rId1"/>
          <a:stretch/>
        </p:blipFill>
        <p:spPr>
          <a:xfrm>
            <a:off x="0" y="19080"/>
            <a:ext cx="9123480" cy="683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04960" y="1066320"/>
            <a:ext cx="571500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Security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and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privacy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1295280" y="6095880"/>
            <a:ext cx="59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ue Kayton and Michael Barcl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v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9913-4904-4F05-B4AF-7D9DAAEB884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ichael’s Security Add-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FF’s   HTTPS Everywhere (Chrome/Firefo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s://www.eff.org/https-everyw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FF’s   Privacy Badger (Chrome/Firefo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s://www.eff.org/privacybad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Firefox on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lashblock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flashblock.mozdev.org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script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s://noscript.net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4"/>
          <p:cNvSpPr/>
          <p:nvPr/>
        </p:nvSpPr>
        <p:spPr>
          <a:xfrm>
            <a:off x="609480" y="1523880"/>
            <a:ext cx="8001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CA45-A9FB-49FC-8614-222D3D161F6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ichael’s Security Add-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s://www.eff.org/files/https-everywhere-banner.png"/>
          <p:cNvPicPr/>
          <p:nvPr/>
        </p:nvPicPr>
        <p:blipFill>
          <a:blip r:embed="rId1"/>
          <a:stretch/>
        </p:blipFill>
        <p:spPr>
          <a:xfrm>
            <a:off x="228600" y="1828800"/>
            <a:ext cx="4495680" cy="1833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Privacy Badger"/>
          <p:cNvPicPr/>
          <p:nvPr/>
        </p:nvPicPr>
        <p:blipFill>
          <a:blip r:embed="rId2"/>
          <a:stretch/>
        </p:blipFill>
        <p:spPr>
          <a:xfrm>
            <a:off x="5105520" y="1447920"/>
            <a:ext cx="3004920" cy="2133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loadion.com/ii/1909004786_1181e9b1e2.png"/>
          <p:cNvPicPr/>
          <p:nvPr/>
        </p:nvPicPr>
        <p:blipFill>
          <a:blip r:embed="rId3"/>
          <a:stretch/>
        </p:blipFill>
        <p:spPr>
          <a:xfrm>
            <a:off x="1469880" y="3809880"/>
            <a:ext cx="2590920" cy="2451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s://noscript.net/noscript/noscript-10years-small.png"/>
          <p:cNvPicPr/>
          <p:nvPr/>
        </p:nvPicPr>
        <p:blipFill>
          <a:blip r:embed="rId4"/>
          <a:stretch/>
        </p:blipFill>
        <p:spPr>
          <a:xfrm>
            <a:off x="5638680" y="4038480"/>
            <a:ext cx="2598840" cy="2598840"/>
          </a:xfrm>
          <a:prstGeom prst="rect">
            <a:avLst/>
          </a:prstGeom>
          <a:ln w="0">
            <a:noFill/>
          </a:ln>
        </p:spPr>
      </p:pic>
      <p:sp>
        <p:nvSpPr>
          <p:cNvPr id="7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F3DA-6470-4537-B958-9F731AAC887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Me\Desktop\images.png"/>
          <p:cNvPicPr/>
          <p:nvPr/>
        </p:nvPicPr>
        <p:blipFill>
          <a:blip r:embed="rId1"/>
          <a:stretch/>
        </p:blipFill>
        <p:spPr>
          <a:xfrm>
            <a:off x="1219320" y="-152280"/>
            <a:ext cx="5486400" cy="7172280"/>
          </a:xfrm>
          <a:prstGeom prst="rect">
            <a:avLst/>
          </a:prstGeom>
          <a:ln w="0">
            <a:noFill/>
          </a:ln>
        </p:spPr>
      </p:pic>
      <p:sp>
        <p:nvSpPr>
          <p:cNvPr id="7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D582-6FD9-4474-B343-796B49EF0E5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990720" y="50760"/>
            <a:ext cx="7315200" cy="6899400"/>
          </a:xfrm>
          <a:prstGeom prst="rect">
            <a:avLst/>
          </a:prstGeom>
          <a:ln w="0">
            <a:noFill/>
          </a:ln>
        </p:spPr>
      </p:pic>
      <p:sp>
        <p:nvSpPr>
          <p:cNvPr id="7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F98C-9FEE-475E-A7FA-FAC7304102F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628640" y="0"/>
            <a:ext cx="5915160" cy="6891480"/>
          </a:xfrm>
          <a:prstGeom prst="rect">
            <a:avLst/>
          </a:prstGeom>
          <a:ln w="0">
            <a:noFill/>
          </a:ln>
        </p:spPr>
      </p:pic>
      <p:sp>
        <p:nvSpPr>
          <p:cNvPr id="7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6264-60B3-4AEB-8B6D-E06BE654091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Password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2A37-247E-4ADC-B673-B660022BBE9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Me\Desktop\images (5).jpg"/>
          <p:cNvPicPr/>
          <p:nvPr/>
        </p:nvPicPr>
        <p:blipFill>
          <a:blip r:embed="rId1"/>
          <a:stretch/>
        </p:blipFill>
        <p:spPr>
          <a:xfrm>
            <a:off x="1676520" y="0"/>
            <a:ext cx="4800600" cy="6931080"/>
          </a:xfrm>
          <a:prstGeom prst="rect">
            <a:avLst/>
          </a:prstGeom>
          <a:ln w="0">
            <a:noFill/>
          </a:ln>
        </p:spPr>
      </p:pic>
      <p:sp>
        <p:nvSpPr>
          <p:cNvPr id="8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4895-BF2B-4F80-B4A7-087529E5F14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828800" y="-42840"/>
            <a:ext cx="5486400" cy="6943680"/>
          </a:xfrm>
          <a:prstGeom prst="rect">
            <a:avLst/>
          </a:prstGeom>
          <a:ln w="0">
            <a:noFill/>
          </a:ln>
        </p:spPr>
      </p:pic>
      <p:sp>
        <p:nvSpPr>
          <p:cNvPr id="8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68F0-CE0C-4621-AB82-BF21CDF9FE3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Me\Desktop\083526_671638.jpg"/>
          <p:cNvPicPr/>
          <p:nvPr/>
        </p:nvPicPr>
        <p:blipFill>
          <a:blip r:embed="rId1"/>
          <a:stretch/>
        </p:blipFill>
        <p:spPr>
          <a:xfrm>
            <a:off x="-76320" y="-380880"/>
            <a:ext cx="9448920" cy="7391160"/>
          </a:xfrm>
          <a:prstGeom prst="rect">
            <a:avLst/>
          </a:prstGeom>
          <a:ln w="0">
            <a:noFill/>
          </a:ln>
        </p:spPr>
      </p:pic>
      <p:sp>
        <p:nvSpPr>
          <p:cNvPr id="8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2ABF-892C-4B05-8DD9-AD2C6E6573E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ontent Placeholder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6126120"/>
          </a:xfrm>
          <a:prstGeom prst="rect">
            <a:avLst/>
          </a:prstGeom>
          <a:ln w="0">
            <a:noFill/>
          </a:ln>
        </p:spPr>
      </p:pic>
      <p:sp>
        <p:nvSpPr>
          <p:cNvPr id="8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4DDD-DBCE-4DD2-BE90-611974AF3D8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Users\Me\Desktop\images (1).jpg"/>
          <p:cNvPicPr/>
          <p:nvPr/>
        </p:nvPicPr>
        <p:blipFill>
          <a:blip r:embed="rId1"/>
          <a:stretch/>
        </p:blipFill>
        <p:spPr>
          <a:xfrm>
            <a:off x="1676520" y="533520"/>
            <a:ext cx="6248160" cy="5879880"/>
          </a:xfrm>
          <a:prstGeom prst="rect">
            <a:avLst/>
          </a:prstGeom>
          <a:ln w="0">
            <a:noFill/>
          </a:ln>
        </p:spPr>
      </p:pic>
      <p:sp>
        <p:nvSpPr>
          <p:cNvPr id="4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D745-CAE0-4061-B5F8-50749A7C938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cewar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orld.std.com/~reinhold/diceware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550800" y="1600200"/>
            <a:ext cx="804240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8B1A-BAD3-4F5C-A45E-C1CE8063B23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31680" y="1523880"/>
            <a:ext cx="9144000" cy="2743200"/>
          </a:xfrm>
          <a:prstGeom prst="rect">
            <a:avLst/>
          </a:prstGeom>
          <a:ln w="0">
            <a:noFill/>
          </a:ln>
        </p:spPr>
      </p:pic>
      <p:sp>
        <p:nvSpPr>
          <p:cNvPr id="9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2A3E-6072-4D9D-A285-F82094653C2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Storing</a:t>
            </a:r>
            <a:br>
              <a:rPr sz="8800"/>
            </a:br>
            <a:r>
              <a:rPr b="1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data safely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639A-D959-4CED-8D0A-EF15D0CF057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85800" y="0"/>
            <a:ext cx="83059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CEB0-4513-4C45-AC01-AAC42A9D3AB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Me\Desktop\images (3).jpg"/>
          <p:cNvPicPr/>
          <p:nvPr/>
        </p:nvPicPr>
        <p:blipFill>
          <a:blip r:embed="rId1"/>
          <a:stretch/>
        </p:blipFill>
        <p:spPr>
          <a:xfrm>
            <a:off x="304920" y="-162000"/>
            <a:ext cx="8961480" cy="702000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E74F-1D09-468A-B971-BB58EF38156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rive encry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Users\Me\Desktop\bitlocker.jpg"/>
          <p:cNvPicPr/>
          <p:nvPr/>
        </p:nvPicPr>
        <p:blipFill>
          <a:blip r:embed="rId1"/>
          <a:stretch/>
        </p:blipFill>
        <p:spPr>
          <a:xfrm>
            <a:off x="4495680" y="2544840"/>
            <a:ext cx="4572000" cy="3932280"/>
          </a:xfrm>
          <a:prstGeom prst="rect">
            <a:avLst/>
          </a:prstGeom>
          <a:ln w="0">
            <a:noFill/>
          </a:ln>
        </p:spPr>
      </p:pic>
      <p:sp>
        <p:nvSpPr>
          <p:cNvPr id="10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798F-1D1A-402C-9AFD-A347EAEB292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tle 1"/>
          <p:cNvSpPr/>
          <p:nvPr/>
        </p:nvSpPr>
        <p:spPr>
          <a:xfrm>
            <a:off x="609480" y="281952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 marL="239760" indent="-239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Bit Lock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39760" indent="-239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39760" indent="-239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TrueCryp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ypes of sec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D21D-44A7-4D6C-A1BB-2DA657892D5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Content Placeholder 2"/>
          <p:cNvSpPr/>
          <p:nvPr/>
        </p:nvSpPr>
        <p:spPr>
          <a:xfrm>
            <a:off x="322200" y="1768320"/>
            <a:ext cx="86868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tect against outside attack or snoo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 of open WiFi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tect you from consequences of doing something stup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 careful where you click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ruses, malicious programs and other mal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s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oring data safely – local or in clou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Snooping</a:t>
            </a:r>
            <a:br>
              <a:rPr sz="8800"/>
            </a:br>
            <a:r>
              <a:rPr b="1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br>
              <a:rPr sz="8800"/>
            </a:br>
            <a:r>
              <a:rPr b="1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outside attac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509F-326D-4628-93E3-710BB1CE166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0761-4AB2-4B3A-94AF-F9D395BE399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139760" y="42840"/>
            <a:ext cx="6864480" cy="6772320"/>
          </a:xfrm>
          <a:prstGeom prst="rect">
            <a:avLst/>
          </a:prstGeom>
          <a:ln w="0">
            <a:noFill/>
          </a:ln>
        </p:spPr>
      </p:pic>
      <p:sp>
        <p:nvSpPr>
          <p:cNvPr id="5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7269-FEB0-4295-8703-CD9B7C3238A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14480" y="304920"/>
            <a:ext cx="9258480" cy="6172200"/>
          </a:xfrm>
          <a:prstGeom prst="rect">
            <a:avLst/>
          </a:prstGeom>
          <a:ln w="0">
            <a:noFill/>
          </a:ln>
        </p:spPr>
      </p:pic>
      <p:sp>
        <p:nvSpPr>
          <p:cNvPr id="5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11F3-A8B4-4108-81D0-51A3B3D12E8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Doing something stupid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D3E0-43B3-4726-BF5A-E2EC9D10EAE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6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2149-78D3-4BFE-B665-867BBA968CE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04:34:43Z</dcterms:created>
  <dc:creator>Student</dc:creator>
  <dc:description/>
  <dc:language>en-US</dc:language>
  <cp:lastModifiedBy>Me</cp:lastModifiedBy>
  <dcterms:modified xsi:type="dcterms:W3CDTF">2016-11-10T05:46:42Z</dcterms:modified>
  <cp:revision>31</cp:revision>
  <dc:subject/>
  <dc:title>Security and privacy</dc:title>
</cp:coreProperties>
</file>