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A5-C8C8-4C22-8938-A4EA5F0B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F16-C9FF-4D01-ACA9-9FCC2AF7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787-B35D-4ECC-90D3-0AD7EE7C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942-3EF9-44B4-8E45-44682941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99D-36B3-4FFD-82AA-E1C6D3DE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D96-DE7D-4300-B52F-B6B2B77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2E4-7099-47DA-AC68-C81DE6D0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AEE-2068-4729-9044-285068F6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0DE-31DB-4CB8-A61E-2E94ACC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588-4FCA-4300-8C0C-A3D02C47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37B-8DF1-40B8-9F4F-A9EEFBE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BB9-B1A2-4C80-A593-EF907A2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B87-3F41-40BC-BA54-54A2D8A75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inite.com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95880" cy="471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windows7logo"/>
          <p:cNvPicPr/>
          <p:nvPr/>
        </p:nvPicPr>
        <p:blipFill>
          <a:blip r:embed="rId2"/>
          <a:stretch/>
        </p:blipFill>
        <p:spPr>
          <a:xfrm>
            <a:off x="2743200" y="3809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45" name="Line 5"/>
          <p:cNvSpPr/>
          <p:nvPr/>
        </p:nvSpPr>
        <p:spPr>
          <a:xfrm flipV="1">
            <a:off x="6400800" y="1444680"/>
            <a:ext cx="0" cy="5029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hrome-os"/>
          <p:cNvPicPr/>
          <p:nvPr/>
        </p:nvPicPr>
        <p:blipFill>
          <a:blip r:embed="rId3"/>
          <a:stretch/>
        </p:blipFill>
        <p:spPr>
          <a:xfrm>
            <a:off x="6705720" y="3276720"/>
            <a:ext cx="1828800" cy="1436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silver-apple-logo"/>
          <p:cNvPicPr/>
          <p:nvPr/>
        </p:nvPicPr>
        <p:blipFill>
          <a:blip r:embed="rId4"/>
          <a:stretch/>
        </p:blipFill>
        <p:spPr>
          <a:xfrm>
            <a:off x="6858000" y="160020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tux"/>
          <p:cNvPicPr/>
          <p:nvPr/>
        </p:nvPicPr>
        <p:blipFill>
          <a:blip r:embed="rId5"/>
          <a:stretch/>
        </p:blipFill>
        <p:spPr>
          <a:xfrm>
            <a:off x="7086600" y="4800600"/>
            <a:ext cx="112536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:\Users\Me\Desktop\W10.png"/>
          <p:cNvPicPr/>
          <p:nvPr/>
        </p:nvPicPr>
        <p:blipFill>
          <a:blip r:embed="rId6"/>
          <a:stretch/>
        </p:blipFill>
        <p:spPr>
          <a:xfrm>
            <a:off x="4605480" y="16765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5"/>
          <p:cNvSpPr/>
          <p:nvPr/>
        </p:nvSpPr>
        <p:spPr>
          <a:xfrm>
            <a:off x="685800" y="21337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ilver-apple-logo"/>
          <p:cNvPicPr/>
          <p:nvPr/>
        </p:nvPicPr>
        <p:blipFill>
          <a:blip r:embed="rId1"/>
          <a:stretch/>
        </p:blipFill>
        <p:spPr>
          <a:xfrm>
            <a:off x="3505320" y="0"/>
            <a:ext cx="164916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8088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ftware won’t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sites wo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obsolescence in 4-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3 times the price of Windows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5"/>
          <p:cNvSpPr/>
          <p:nvPr/>
        </p:nvSpPr>
        <p:spPr>
          <a:xfrm>
            <a:off x="685800" y="2438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80880" y="2895480"/>
            <a:ext cx="82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xpensive basic system for casua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the internet, emails,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s like a laptop, acts like a smart phone without the 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pps instead of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pps available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rome-os"/>
          <p:cNvPicPr/>
          <p:nvPr/>
        </p:nvPicPr>
        <p:blipFill>
          <a:blip r:embed="rId1"/>
          <a:stretch/>
        </p:blipFill>
        <p:spPr>
          <a:xfrm>
            <a:off x="2895480" y="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5"/>
          <p:cNvSpPr/>
          <p:nvPr/>
        </p:nvSpPr>
        <p:spPr>
          <a:xfrm>
            <a:off x="685800" y="2438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2895480"/>
            <a:ext cx="82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by geeks and h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little softw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ebsites do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eople who want to write their ow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tux"/>
          <p:cNvPicPr/>
          <p:nvPr/>
        </p:nvPicPr>
        <p:blipFill>
          <a:blip r:embed="rId1"/>
          <a:stretch/>
        </p:blipFill>
        <p:spPr>
          <a:xfrm>
            <a:off x="3429000" y="228600"/>
            <a:ext cx="1600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9588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indows7logo"/>
          <p:cNvPicPr/>
          <p:nvPr/>
        </p:nvPicPr>
        <p:blipFill>
          <a:blip r:embed="rId2"/>
          <a:stretch/>
        </p:blipFill>
        <p:spPr>
          <a:xfrm>
            <a:off x="2743200" y="3809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 flipV="1">
            <a:off x="6324480" y="1447920"/>
            <a:ext cx="0" cy="5029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chrome-os"/>
          <p:cNvPicPr/>
          <p:nvPr/>
        </p:nvPicPr>
        <p:blipFill>
          <a:blip r:embed="rId3"/>
          <a:stretch/>
        </p:blipFill>
        <p:spPr>
          <a:xfrm>
            <a:off x="6705720" y="3276720"/>
            <a:ext cx="1828800" cy="14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silver-apple-logo"/>
          <p:cNvPicPr/>
          <p:nvPr/>
        </p:nvPicPr>
        <p:blipFill>
          <a:blip r:embed="rId4"/>
          <a:stretch/>
        </p:blipFill>
        <p:spPr>
          <a:xfrm>
            <a:off x="6858000" y="1600200"/>
            <a:ext cx="1405080" cy="175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tux"/>
          <p:cNvPicPr/>
          <p:nvPr/>
        </p:nvPicPr>
        <p:blipFill>
          <a:blip r:embed="rId5"/>
          <a:stretch/>
        </p:blipFill>
        <p:spPr>
          <a:xfrm>
            <a:off x="7086600" y="4800600"/>
            <a:ext cx="112536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:\Users\Me\Desktop\W10.png"/>
          <p:cNvPicPr/>
          <p:nvPr/>
        </p:nvPicPr>
        <p:blipFill>
          <a:blip r:embed="rId6"/>
          <a:stretch/>
        </p:blipFill>
        <p:spPr>
          <a:xfrm>
            <a:off x="4597560" y="1668600"/>
            <a:ext cx="14871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6F7-F9F1-4FE7-A7A2-FE25EC957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ktop computers worldwid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223040" y="4910040"/>
            <a:ext cx="176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609480" y="12952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5410080"/>
            <a:ext cx="80010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of October 201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www.netmarketshare.com/operating-system-market-share.aspx?qprid=10&amp;qpcustom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C:\Users\Me\Desktop\share.jpg"/>
          <p:cNvPicPr/>
          <p:nvPr/>
        </p:nvPicPr>
        <p:blipFill>
          <a:blip r:embed="rId1"/>
          <a:stretch/>
        </p:blipFill>
        <p:spPr>
          <a:xfrm>
            <a:off x="371520" y="1295280"/>
            <a:ext cx="87724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2666520"/>
            <a:ext cx="88390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works 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useful for another year or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refox or Chrome fo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UP your data before computer f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want to replace machine before it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533520" y="2209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447920" y="85680"/>
            <a:ext cx="289548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4876920" y="301680"/>
            <a:ext cx="2349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78483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Windows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do work and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useful for another 6 to 8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le with most periph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533520" y="2438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windows7logo"/>
          <p:cNvPicPr/>
          <p:nvPr/>
        </p:nvPicPr>
        <p:blipFill>
          <a:blip r:embed="rId1"/>
          <a:stretch/>
        </p:blipFill>
        <p:spPr>
          <a:xfrm>
            <a:off x="3200400" y="228600"/>
            <a:ext cx="20574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2819520"/>
            <a:ext cx="88394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for email, browsing, and watching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OK for pow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PLAY, no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uch screen is NOT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8.1 is still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33520" y="25909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743200" y="192240"/>
            <a:ext cx="28288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2819520"/>
            <a:ext cx="883944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compatibilit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except for older software, cameras,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ch screen NOT needed or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grade free until July 26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last version of Windows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533520" y="25909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Me\Desktop\W10.png"/>
          <p:cNvPicPr/>
          <p:nvPr/>
        </p:nvPicPr>
        <p:blipFill>
          <a:blip r:embed="rId1"/>
          <a:stretch/>
        </p:blipFill>
        <p:spPr>
          <a:xfrm>
            <a:off x="2895480" y="10008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8 Modern mode (T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Me\Desktop\Start-1.jpg"/>
          <p:cNvPicPr/>
          <p:nvPr/>
        </p:nvPicPr>
        <p:blipFill>
          <a:blip r:embed="rId1"/>
          <a:stretch/>
        </p:blipFill>
        <p:spPr>
          <a:xfrm>
            <a:off x="380880" y="1676520"/>
            <a:ext cx="7925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83944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-F4 to clos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-P to change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(and type) to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key to to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609480" y="16002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19320" y="3348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8 keyboard shortc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win-key"/>
          <p:cNvPicPr/>
          <p:nvPr/>
        </p:nvPicPr>
        <p:blipFill>
          <a:blip r:embed="rId1"/>
          <a:stretch/>
        </p:blipFill>
        <p:spPr>
          <a:xfrm>
            <a:off x="5257800" y="403848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you back the Start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you to boot to Windows 7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indows 8.1 does this automatic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download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init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609480" y="27306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C:\Users\Me\Desktop\corner.png"/>
          <p:cNvPicPr/>
          <p:nvPr/>
        </p:nvPicPr>
        <p:blipFill>
          <a:blip r:embed="rId2"/>
          <a:stretch/>
        </p:blipFill>
        <p:spPr>
          <a:xfrm>
            <a:off x="782640" y="533520"/>
            <a:ext cx="2273400" cy="16383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886200" y="90648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3:05:49Z</dcterms:created>
  <dc:creator>Me</dc:creator>
  <dc:description/>
  <dc:language>en-US</dc:language>
  <cp:lastModifiedBy>Me</cp:lastModifiedBy>
  <dcterms:modified xsi:type="dcterms:W3CDTF">2015-10-04T06:28:59Z</dcterms:modified>
  <cp:revision>74</cp:revision>
  <dc:subject/>
  <dc:title>Taking Care of Your Computer</dc:title>
</cp:coreProperties>
</file>