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0C2-511F-4584-A1FF-6BA0E3B6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494-7883-4270-B70F-3C0FA92C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5E3-303F-4251-9924-34ED1D6B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5C0-4517-4BBF-A3E7-FEBD77A2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E52-A123-4F16-9B6B-A551585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DBD-E060-4208-8AB3-124C8DDA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EB4-E13A-4EA5-85EC-6769576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5EF-EAFA-4020-A5D0-0E6E7BBE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8FF-D78F-4DDD-B7E8-92D9665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B8F-416F-4279-B4DC-CF7FA86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7C6-0F04-4457-98A6-AD24CB5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CDD-2174-4F70-91EF-82C47C9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C3A-ECB4-4C72-A51D-D9D3FCAF0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inite.com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95880" cy="471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windows7logo"/>
          <p:cNvPicPr/>
          <p:nvPr/>
        </p:nvPicPr>
        <p:blipFill>
          <a:blip r:embed="rId2"/>
          <a:stretch/>
        </p:blipFill>
        <p:spPr>
          <a:xfrm>
            <a:off x="2743200" y="3809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V="1">
            <a:off x="6400800" y="1444680"/>
            <a:ext cx="0" cy="5029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hrome-os"/>
          <p:cNvPicPr/>
          <p:nvPr/>
        </p:nvPicPr>
        <p:blipFill>
          <a:blip r:embed="rId3"/>
          <a:stretch/>
        </p:blipFill>
        <p:spPr>
          <a:xfrm>
            <a:off x="6705720" y="3276720"/>
            <a:ext cx="1828800" cy="1436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ilver-apple-logo"/>
          <p:cNvPicPr/>
          <p:nvPr/>
        </p:nvPicPr>
        <p:blipFill>
          <a:blip r:embed="rId4"/>
          <a:stretch/>
        </p:blipFill>
        <p:spPr>
          <a:xfrm>
            <a:off x="6858000" y="16002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tux"/>
          <p:cNvPicPr/>
          <p:nvPr/>
        </p:nvPicPr>
        <p:blipFill>
          <a:blip r:embed="rId5"/>
          <a:stretch/>
        </p:blipFill>
        <p:spPr>
          <a:xfrm>
            <a:off x="7086600" y="4800600"/>
            <a:ext cx="112536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Me\Desktop\W10.png"/>
          <p:cNvPicPr/>
          <p:nvPr/>
        </p:nvPicPr>
        <p:blipFill>
          <a:blip r:embed="rId6"/>
          <a:stretch/>
        </p:blipFill>
        <p:spPr>
          <a:xfrm>
            <a:off x="4605480" y="16765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5"/>
          <p:cNvSpPr/>
          <p:nvPr/>
        </p:nvSpPr>
        <p:spPr>
          <a:xfrm>
            <a:off x="685800" y="2133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ilver-apple-logo"/>
          <p:cNvPicPr/>
          <p:nvPr/>
        </p:nvPicPr>
        <p:blipFill>
          <a:blip r:embed="rId1"/>
          <a:stretch/>
        </p:blipFill>
        <p:spPr>
          <a:xfrm>
            <a:off x="3505320" y="0"/>
            <a:ext cx="164916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8088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ftware won’t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sites wo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obsolescence in 4-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3 times the price of Windows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5"/>
          <p:cNvSpPr/>
          <p:nvPr/>
        </p:nvSpPr>
        <p:spPr>
          <a:xfrm>
            <a:off x="685800" y="2438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289548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pensive basic system for casua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the internet, emails,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like a laptop, acts like a smart phone without the 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pps instead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pps availabl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rome-os"/>
          <p:cNvPicPr/>
          <p:nvPr/>
        </p:nvPicPr>
        <p:blipFill>
          <a:blip r:embed="rId1"/>
          <a:stretch/>
        </p:blipFill>
        <p:spPr>
          <a:xfrm>
            <a:off x="2895480" y="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5"/>
          <p:cNvSpPr/>
          <p:nvPr/>
        </p:nvSpPr>
        <p:spPr>
          <a:xfrm>
            <a:off x="685800" y="2438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289548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by geeks and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little softw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sites do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eople who want to write their ow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ux"/>
          <p:cNvPicPr/>
          <p:nvPr/>
        </p:nvPicPr>
        <p:blipFill>
          <a:blip r:embed="rId1"/>
          <a:stretch/>
        </p:blipFill>
        <p:spPr>
          <a:xfrm>
            <a:off x="3429000" y="2286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9588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indows7logo"/>
          <p:cNvPicPr/>
          <p:nvPr/>
        </p:nvPicPr>
        <p:blipFill>
          <a:blip r:embed="rId2"/>
          <a:stretch/>
        </p:blipFill>
        <p:spPr>
          <a:xfrm>
            <a:off x="2743200" y="3809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6324480" y="1447920"/>
            <a:ext cx="0" cy="5029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chrome-os"/>
          <p:cNvPicPr/>
          <p:nvPr/>
        </p:nvPicPr>
        <p:blipFill>
          <a:blip r:embed="rId3"/>
          <a:stretch/>
        </p:blipFill>
        <p:spPr>
          <a:xfrm>
            <a:off x="6705720" y="3276720"/>
            <a:ext cx="1828800" cy="14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ilver-apple-logo"/>
          <p:cNvPicPr/>
          <p:nvPr/>
        </p:nvPicPr>
        <p:blipFill>
          <a:blip r:embed="rId4"/>
          <a:stretch/>
        </p:blipFill>
        <p:spPr>
          <a:xfrm>
            <a:off x="6858000" y="16002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tux"/>
          <p:cNvPicPr/>
          <p:nvPr/>
        </p:nvPicPr>
        <p:blipFill>
          <a:blip r:embed="rId5"/>
          <a:stretch/>
        </p:blipFill>
        <p:spPr>
          <a:xfrm>
            <a:off x="7086600" y="4800600"/>
            <a:ext cx="112536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Me\Desktop\W10.png"/>
          <p:cNvPicPr/>
          <p:nvPr/>
        </p:nvPicPr>
        <p:blipFill>
          <a:blip r:embed="rId6"/>
          <a:stretch/>
        </p:blipFill>
        <p:spPr>
          <a:xfrm>
            <a:off x="4597560" y="1668600"/>
            <a:ext cx="14871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382-BE71-4F81-84BE-C1A3D27A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top computers worldwid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223040" y="4910040"/>
            <a:ext cx="176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5410080"/>
            <a:ext cx="8001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f October 20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netmarketshare.com/operating-system-market-share.aspx?qprid=10&amp;qpcustom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Users\Me\Desktop\share.jpg"/>
          <p:cNvPicPr/>
          <p:nvPr/>
        </p:nvPicPr>
        <p:blipFill>
          <a:blip r:embed="rId1"/>
          <a:stretch/>
        </p:blipFill>
        <p:spPr>
          <a:xfrm>
            <a:off x="371520" y="1295280"/>
            <a:ext cx="87724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2666520"/>
            <a:ext cx="88390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works 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useful for another year or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refox or Chrome fo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 your data before computer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to replace machine before it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533520" y="2209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447920" y="85680"/>
            <a:ext cx="289548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876920" y="301680"/>
            <a:ext cx="2349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78483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Windows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do work and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useful for another 6 to 8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most periph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533520" y="2438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windows7logo"/>
          <p:cNvPicPr/>
          <p:nvPr/>
        </p:nvPicPr>
        <p:blipFill>
          <a:blip r:embed="rId1"/>
          <a:stretch/>
        </p:blipFill>
        <p:spPr>
          <a:xfrm>
            <a:off x="3200400" y="228600"/>
            <a:ext cx="2057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8394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for email, browsing, and watch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K for pow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PLAY, no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uch screen is NOT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.1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33520" y="2590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43200" y="192240"/>
            <a:ext cx="28288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8394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except for older software, cameras,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screen NOT needed or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 free until July 26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last version of Windows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33520" y="2590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Me\Desktop\W10.png"/>
          <p:cNvPicPr/>
          <p:nvPr/>
        </p:nvPicPr>
        <p:blipFill>
          <a:blip r:embed="rId1"/>
          <a:stretch/>
        </p:blipFill>
        <p:spPr>
          <a:xfrm>
            <a:off x="2895480" y="10008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 Modern mode (T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Me\Desktop\Start-1.jpg"/>
          <p:cNvPicPr/>
          <p:nvPr/>
        </p:nvPicPr>
        <p:blipFill>
          <a:blip r:embed="rId1"/>
          <a:stretch/>
        </p:blipFill>
        <p:spPr>
          <a:xfrm>
            <a:off x="380880" y="1676520"/>
            <a:ext cx="7925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83944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F4 to 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-P to chang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(and type) to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key to to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609480" y="16002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19320" y="3348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 keyboard short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win-key"/>
          <p:cNvPicPr/>
          <p:nvPr/>
        </p:nvPicPr>
        <p:blipFill>
          <a:blip r:embed="rId1"/>
          <a:stretch/>
        </p:blipFill>
        <p:spPr>
          <a:xfrm>
            <a:off x="5257800" y="40384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you back the Start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boot to Windows 7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ndows 8.1 does this automatic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download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init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609480" y="2730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C:\Users\Me\Desktop\corner.png"/>
          <p:cNvPicPr/>
          <p:nvPr/>
        </p:nvPicPr>
        <p:blipFill>
          <a:blip r:embed="rId2"/>
          <a:stretch/>
        </p:blipFill>
        <p:spPr>
          <a:xfrm>
            <a:off x="782640" y="533520"/>
            <a:ext cx="2273400" cy="1638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886200" y="90648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6:28:59Z</dcterms:modified>
  <cp:revision>74</cp:revision>
  <dc:subject/>
  <dc:title>Taking Care of Your Computer</dc:title>
</cp:coreProperties>
</file>