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53F3-036E-42CA-ADE8-C2BB38FA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4FB-6FB6-4122-A02E-BE83C321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5AF-89CF-4AD0-A038-CCD6466B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F23-C4BC-4457-A98C-6979BD38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2F3-28B7-422A-BE4B-24DDB159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C90-B55A-4477-BDC2-4B45C6C2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9EA-8CBB-4510-BBBE-255C4706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D14-53D7-427F-8FD3-52F71D60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813-1EF9-4050-AE37-EA3EBE2D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87F-0C5F-43BF-ADCA-20BD95D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1F2-F821-4D81-90D0-9AE398A2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AED-0505-41AE-B8A1-29FAE190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138F-C325-41FB-8F14-2B5E434EA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laptopmag.com/t/windows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480960" y="1681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Ma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Windows 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Work For 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3681360" y="4572000"/>
            <a:ext cx="1828800" cy="15526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457200" y="6019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e Kayton    November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Me\Desktop\ninite2.gif"/>
          <p:cNvPicPr/>
          <p:nvPr/>
        </p:nvPicPr>
        <p:blipFill>
          <a:blip r:embed="rId1"/>
          <a:stretch/>
        </p:blipFill>
        <p:spPr>
          <a:xfrm>
            <a:off x="71280" y="1000080"/>
            <a:ext cx="8996400" cy="5578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Me\Desktop\Ninite.gif"/>
          <p:cNvPicPr/>
          <p:nvPr/>
        </p:nvPicPr>
        <p:blipFill>
          <a:blip r:embed="rId2"/>
          <a:stretch/>
        </p:blipFill>
        <p:spPr>
          <a:xfrm>
            <a:off x="2895480" y="157320"/>
            <a:ext cx="41338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C:\Users\Me\Desktop\Windows-10-start-menu-1024x73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:\Users\Me\Desktop\Windows-8-1-Start-Screen-vs-Windows-10-Start-Menu-466736-8.jpg"/>
          <p:cNvPicPr/>
          <p:nvPr/>
        </p:nvPicPr>
        <p:blipFill>
          <a:blip r:embed="rId1"/>
          <a:stretch/>
        </p:blipFill>
        <p:spPr>
          <a:xfrm>
            <a:off x="0" y="380880"/>
            <a:ext cx="912636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Users\Me\Desktop\Windows_10_all_apps_thumb800.pn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Microsoft Ed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Me\Desktop\Cap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Defaul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program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Me\Desktop\Capture.JPG"/>
          <p:cNvPicPr/>
          <p:nvPr/>
        </p:nvPicPr>
        <p:blipFill>
          <a:blip r:embed="rId1"/>
          <a:stretch/>
        </p:blipFill>
        <p:spPr>
          <a:xfrm>
            <a:off x="1600200" y="7920"/>
            <a:ext cx="5791320" cy="68198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7"/>
          <p:cNvCxnSpPr/>
          <p:nvPr/>
        </p:nvCxnSpPr>
        <p:spPr>
          <a:xfrm>
            <a:off x="2133360" y="5715000"/>
            <a:ext cx="1600920" cy="915120"/>
          </a:xfrm>
          <a:prstGeom prst="straightConnector1">
            <a:avLst/>
          </a:prstGeom>
          <a:ln w="171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Me\Desktop\Picture41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ndows 10 major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8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jor upgrades twice a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uter becomes unusable for two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notification or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menu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mes disapp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C:\Users\Me\Desktop\windows upgrade.jpg"/>
          <p:cNvPicPr/>
          <p:nvPr/>
        </p:nvPicPr>
        <p:blipFill>
          <a:blip r:embed="rId1"/>
          <a:stretch/>
        </p:blipFill>
        <p:spPr>
          <a:xfrm>
            <a:off x="3713040" y="3276720"/>
            <a:ext cx="5126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1523880" y="685800"/>
            <a:ext cx="59436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move clu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33520" y="10666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16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move un-needed items from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sk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skb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rt 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urn off OneDr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urn off notif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Me\Desktop\windows-10_logon-screen_disabled.jpg"/>
          <p:cNvPicPr/>
          <p:nvPr/>
        </p:nvPicPr>
        <p:blipFill>
          <a:blip r:embed="rId1"/>
          <a:stretch/>
        </p:blipFill>
        <p:spPr>
          <a:xfrm>
            <a:off x="914400" y="1447920"/>
            <a:ext cx="7324560" cy="532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g in sc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cal or Microsoft lo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 lo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ier to trouble-shoot and re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use blank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automatically log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lo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 to OneDrive, LiveMail and Outlook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get locked out of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CH harder to trouble-sh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not use blank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ndows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eCell, Solitaire, Minesweeper still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ve to re-install after every service pack (build) upgrade, about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Users\Me\Desktop\unnamed.png"/>
          <p:cNvPicPr/>
          <p:nvPr/>
        </p:nvPicPr>
        <p:blipFill>
          <a:blip r:embed="rId1"/>
          <a:stretch/>
        </p:blipFill>
        <p:spPr>
          <a:xfrm>
            <a:off x="2438280" y="4038480"/>
            <a:ext cx="3581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tana personal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Me\Desktop\cortanainterface.jpg"/>
          <p:cNvPicPr/>
          <p:nvPr/>
        </p:nvPicPr>
        <p:blipFill>
          <a:blip r:embed="rId1"/>
          <a:stretch/>
        </p:blipFill>
        <p:spPr>
          <a:xfrm>
            <a:off x="533520" y="1905120"/>
            <a:ext cx="811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tana personal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C:\Users\Me\Desktop\cortana3.png"/>
          <p:cNvPicPr/>
          <p:nvPr/>
        </p:nvPicPr>
        <p:blipFill>
          <a:blip r:embed="rId1"/>
          <a:stretch/>
        </p:blipFill>
        <p:spPr>
          <a:xfrm>
            <a:off x="133200" y="1905120"/>
            <a:ext cx="410688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Me\Desktop\cortana 4.png"/>
          <p:cNvPicPr/>
          <p:nvPr/>
        </p:nvPicPr>
        <p:blipFill>
          <a:blip r:embed="rId2"/>
          <a:stretch/>
        </p:blipFill>
        <p:spPr>
          <a:xfrm>
            <a:off x="4724280" y="2362320"/>
            <a:ext cx="4175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abling safe mode on b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fe Mode needed to recover from bad drivers, virus infestation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m elevated command promp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dedit /set {bootmgr} displaybootmenu 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bcdedit /timeout 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bcdedit /set {default} bootmenupolicy leg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abling safe mode on b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9528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t F8 when you see this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Me\Desktop\Windows10LegacyBootLoader.png"/>
          <p:cNvPicPr/>
          <p:nvPr/>
        </p:nvPicPr>
        <p:blipFill>
          <a:blip r:embed="rId1"/>
          <a:stretch/>
        </p:blipFill>
        <p:spPr>
          <a:xfrm>
            <a:off x="914400" y="2438280"/>
            <a:ext cx="806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covery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752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ld down shift key while resta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can’t boot, may launch auto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Me\Desktop\Windows10AdvancedOptions.png"/>
          <p:cNvPicPr/>
          <p:nvPr/>
        </p:nvPicPr>
        <p:blipFill>
          <a:blip r:embed="rId1"/>
          <a:stretch/>
        </p:blipFill>
        <p:spPr>
          <a:xfrm>
            <a:off x="1752480" y="3124080"/>
            <a:ext cx="561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Me\Desktop\Windows10StartupSettings.jpg"/>
          <p:cNvPicPr/>
          <p:nvPr/>
        </p:nvPicPr>
        <p:blipFill>
          <a:blip r:embed="rId1"/>
          <a:stretch/>
        </p:blipFill>
        <p:spPr>
          <a:xfrm>
            <a:off x="1905120" y="228600"/>
            <a:ext cx="5562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is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4"/>
          <p:cNvSpPr/>
          <p:nvPr/>
        </p:nvSpPr>
        <p:spPr>
          <a:xfrm>
            <a:off x="685800" y="137160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9600" y="1599840"/>
            <a:ext cx="4300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me na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sktop ic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rt men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Explor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crosoft Ed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1"/>
          <p:cNvSpPr/>
          <p:nvPr/>
        </p:nvSpPr>
        <p:spPr>
          <a:xfrm>
            <a:off x="4754520" y="1752480"/>
            <a:ext cx="430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arch (Cortan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icture view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a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fe mo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Me\Desktop\databackup-datarecovery.jpg"/>
          <p:cNvPicPr/>
          <p:nvPr/>
        </p:nvPicPr>
        <p:blipFill>
          <a:blip r:embed="rId1"/>
          <a:stretch/>
        </p:blipFill>
        <p:spPr>
          <a:xfrm>
            <a:off x="0" y="0"/>
            <a:ext cx="915984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C:\Users\Me\Desktop\silly_computer_repair_cartoon_laptop_with_wrench_photosculpture-rbacfe7f43dfa443084f9a5550fff6d99_x7saw_8byvr_512.jpg"/>
          <p:cNvPicPr/>
          <p:nvPr/>
        </p:nvPicPr>
        <p:blipFill>
          <a:blip r:embed="rId1"/>
          <a:stretch/>
        </p:blipFill>
        <p:spPr>
          <a:xfrm>
            <a:off x="4800600" y="2743200"/>
            <a:ext cx="3705120" cy="3705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 up  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828800"/>
            <a:ext cx="46483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ck up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ck up you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ke a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air dr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ystem image back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C:\Users\Me\Desktop\Capture.JPG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5416560"/>
          </a:xfrm>
          <a:prstGeom prst="rect">
            <a:avLst/>
          </a:prstGeom>
          <a:ln w="0">
            <a:noFill/>
          </a:ln>
        </p:spPr>
      </p:pic>
      <p:cxnSp>
        <p:nvCxnSpPr>
          <p:cNvPr id="123" name="Straight Arrow Connector 2"/>
          <p:cNvCxnSpPr/>
          <p:nvPr/>
        </p:nvCxnSpPr>
        <p:spPr>
          <a:xfrm flipH="1">
            <a:off x="2361960" y="4952520"/>
            <a:ext cx="915120" cy="129636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Oval 5"/>
          <p:cNvSpPr/>
          <p:nvPr/>
        </p:nvSpPr>
        <p:spPr>
          <a:xfrm>
            <a:off x="4038480" y="1600200"/>
            <a:ext cx="1524240" cy="83808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ata back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ud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ogle 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op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al drop-and-dr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rd-party software (G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ilt in software in Windows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Me\Desktop\uped-1.gif"/>
          <p:cNvPicPr/>
          <p:nvPr/>
        </p:nvPicPr>
        <p:blipFill>
          <a:blip r:embed="rId1"/>
          <a:stretch/>
        </p:blipFill>
        <p:spPr>
          <a:xfrm>
            <a:off x="4848120" y="1523880"/>
            <a:ext cx="3738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C:\Users\Me\Desktop\Picture2.gif"/>
          <p:cNvPicPr/>
          <p:nvPr/>
        </p:nvPicPr>
        <p:blipFill>
          <a:blip r:embed="rId1"/>
          <a:stretch/>
        </p:blipFill>
        <p:spPr>
          <a:xfrm>
            <a:off x="5445000" y="1981080"/>
            <a:ext cx="3699000" cy="4538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52280" y="1676160"/>
            <a:ext cx="6058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7 security updates end January 202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7 Pro OEM sales end October 31, 201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vendors will stop support s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future of Windows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 learn 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952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web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ww.suekayto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ick on Windows 10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m’s Guide to Windows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laptopmag.com/t/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1523880" y="685800"/>
            <a:ext cx="59436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PC (was My Compu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Edge (was Internet Explor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C settings (Windows 10 control pan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update – moved to PC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Deskto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Users\Me\Desktop\windows-10-review-desktop-4-970x546-c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Me\Desktop\536x286xhtf3_png_pagespeed_ic_9g88cqqC38.jpg"/>
          <p:cNvPicPr/>
          <p:nvPr/>
        </p:nvPicPr>
        <p:blipFill>
          <a:blip r:embed="rId1"/>
          <a:stretch/>
        </p:blipFill>
        <p:spPr>
          <a:xfrm>
            <a:off x="533520" y="1905120"/>
            <a:ext cx="8013600" cy="144756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614960" y="5326200"/>
            <a:ext cx="318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l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et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6189480" y="4788000"/>
            <a:ext cx="29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y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wnload ap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6"/>
          <p:cNvCxnSpPr/>
          <p:nvPr/>
        </p:nvCxnSpPr>
        <p:spPr>
          <a:xfrm flipV="1">
            <a:off x="2966760" y="3382200"/>
            <a:ext cx="1080" cy="19738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 flipH="1" flipV="1">
            <a:off x="6324120" y="3428280"/>
            <a:ext cx="1524960" cy="10724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TextBox 14"/>
          <p:cNvSpPr/>
          <p:nvPr/>
        </p:nvSpPr>
        <p:spPr>
          <a:xfrm>
            <a:off x="4451040" y="4249800"/>
            <a:ext cx="169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5"/>
          <p:cNvCxnSpPr/>
          <p:nvPr/>
        </p:nvCxnSpPr>
        <p:spPr>
          <a:xfrm flipH="1" flipV="1">
            <a:off x="4636800" y="3402720"/>
            <a:ext cx="545040" cy="8470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Box 20"/>
          <p:cNvSpPr/>
          <p:nvPr/>
        </p:nvSpPr>
        <p:spPr>
          <a:xfrm>
            <a:off x="291240" y="420228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sk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21"/>
          <p:cNvCxnSpPr>
            <a:stCxn id="63" idx="0"/>
          </p:cNvCxnSpPr>
          <p:nvPr/>
        </p:nvCxnSpPr>
        <p:spPr>
          <a:xfrm flipH="1" flipV="1">
            <a:off x="1240920" y="3401280"/>
            <a:ext cx="45360" cy="80100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Star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men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ere did my start button g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Me\Desktop\Windows7StartMenu.png"/>
          <p:cNvPicPr/>
          <p:nvPr/>
        </p:nvPicPr>
        <p:blipFill>
          <a:blip r:embed="rId1"/>
          <a:stretch/>
        </p:blipFill>
        <p:spPr>
          <a:xfrm>
            <a:off x="2971800" y="2133720"/>
            <a:ext cx="339264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3:47:38Z</dcterms:created>
  <dc:creator>Me</dc:creator>
  <dc:description/>
  <dc:language>en-US</dc:language>
  <cp:lastModifiedBy>Me</cp:lastModifiedBy>
  <dcterms:modified xsi:type="dcterms:W3CDTF">2016-11-07T07:00:41Z</dcterms:modified>
  <cp:revision>57</cp:revision>
  <dc:subject/>
  <dc:title>PowerPoint Presentation</dc:title>
</cp:coreProperties>
</file>