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5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068-7CE8-493C-93CC-FC4E8583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DFC-BA10-4274-9380-4AE38B1F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41D-AFCE-4106-8F50-C4D7525A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CAE-1E3A-4FF1-8DF7-C3F8ADF3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CD9-B0D5-4FFD-890E-7ECF7A3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53D3-0BE7-44F3-93D5-24E1CC49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8C2-D22E-4E2A-B218-468F3937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38C-DEAD-4043-8B18-B89BD374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7CC-9494-4080-A44E-B4B93B0E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06D-A55D-4471-86B8-64C79989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7A8-ECE7-470E-A5ED-AF39DA7E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697-272F-4529-813A-2857DF68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D2DD-4F72-4364-92FD-318F6DEBC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st_of_rogue_security_software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 Your Computer Cl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 Kay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016000" y="1523880"/>
            <a:ext cx="42498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’s a c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1521000"/>
            <a:ext cx="82296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1"/>
          <p:cNvSpPr/>
          <p:nvPr/>
        </p:nvSpPr>
        <p:spPr>
          <a:xfrm>
            <a:off x="5165640" y="3995640"/>
            <a:ext cx="314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too sl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rive too 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loading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startup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temp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ting due to d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nough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Windows%20Disk%20Cleanup%20icon"/>
          <p:cNvPicPr/>
          <p:nvPr/>
        </p:nvPicPr>
        <p:blipFill>
          <a:blip r:embed="rId1"/>
          <a:stretch/>
        </p:blipFill>
        <p:spPr>
          <a:xfrm>
            <a:off x="6324480" y="342900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abuse your lap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Laptop cord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laptop preca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ff when not being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 up so air can circulate undern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on soft surface if it has bottom vent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food and drink a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CDs and DVDs from drive when not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Viruses and Malwa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C:\Users\Me\Desktop\14930271-a-thief-inside-computer-monitor.jpg"/>
          <p:cNvPicPr/>
          <p:nvPr/>
        </p:nvPicPr>
        <p:blipFill>
          <a:blip r:embed="rId1"/>
          <a:stretch/>
        </p:blipFill>
        <p:spPr>
          <a:xfrm>
            <a:off x="304920" y="3011400"/>
            <a:ext cx="3886200" cy="3846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Users\Me\Desktop\thumb_COLOURBOX7006239.jpg"/>
          <p:cNvPicPr/>
          <p:nvPr/>
        </p:nvPicPr>
        <p:blipFill>
          <a:blip r:embed="rId2"/>
          <a:stretch/>
        </p:blipFill>
        <p:spPr>
          <a:xfrm>
            <a:off x="5181480" y="2971800"/>
            <a:ext cx="3714840" cy="3701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319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 can happen to </a:t>
            </a:r>
            <a:br>
              <a:rPr sz="6000"/>
            </a:br>
            <a:r>
              <a:rPr b="1" lang="en-US" sz="16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paran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click on banking or security links.  Type in the address if you know it’s leg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are on the REAL site, not a mis-spelling or phishing or fake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Me\Desktop\Campaign_Targeted_Standard_Charteded_Bank_1.jpg"/>
          <p:cNvPicPr/>
          <p:nvPr/>
        </p:nvPicPr>
        <p:blipFill>
          <a:blip r:embed="rId1"/>
          <a:stretch/>
        </p:blipFill>
        <p:spPr>
          <a:xfrm>
            <a:off x="1752480" y="3276720"/>
            <a:ext cx="5715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Me\Desktop\e48357bd5b92683d8693407aac9e012f4cf72570.jpg"/>
          <p:cNvPicPr/>
          <p:nvPr/>
        </p:nvPicPr>
        <p:blipFill>
          <a:blip r:embed="rId1"/>
          <a:stretch/>
        </p:blipFill>
        <p:spPr>
          <a:xfrm>
            <a:off x="241200" y="457200"/>
            <a:ext cx="87440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avoid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915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download free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download free porn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sit questionable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open iffy attac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let teenagers use your compu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sexy"/>
          <p:cNvPicPr/>
          <p:nvPr/>
        </p:nvPicPr>
        <p:blipFill>
          <a:blip r:embed="rId1"/>
          <a:stretch/>
        </p:blipFill>
        <p:spPr>
          <a:xfrm>
            <a:off x="5257800" y="4203720"/>
            <a:ext cx="1523880" cy="2290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Don't"/>
          <p:cNvPicPr/>
          <p:nvPr/>
        </p:nvPicPr>
        <p:blipFill>
          <a:blip r:embed="rId2"/>
          <a:stretch/>
        </p:blipFill>
        <p:spPr>
          <a:xfrm>
            <a:off x="4576680" y="3911760"/>
            <a:ext cx="2886120" cy="2938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C:\Users\Me\Desktop\music_note2.jpg"/>
          <p:cNvPicPr/>
          <p:nvPr/>
        </p:nvPicPr>
        <p:blipFill>
          <a:blip r:embed="rId3"/>
          <a:stretch/>
        </p:blipFill>
        <p:spPr>
          <a:xfrm>
            <a:off x="809640" y="4273560"/>
            <a:ext cx="1878120" cy="203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Don't"/>
          <p:cNvPicPr/>
          <p:nvPr/>
        </p:nvPicPr>
        <p:blipFill>
          <a:blip r:embed="rId4"/>
          <a:stretch/>
        </p:blipFill>
        <p:spPr>
          <a:xfrm>
            <a:off x="380880" y="3898800"/>
            <a:ext cx="2895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computer physically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only the programs you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number of startup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off the computer when not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yank or pull on 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care of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anti-virus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on Anti-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Afee Anti-Virus 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spersky Anti-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antec Anti-Virus or Endpoint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G Anti-Virus Free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Defender or Security 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es or full protection packages, AVG paid, Panda, Trend, Avira, Av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ke security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aranoi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fooled by fake al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sit questionable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fake-spyware-removal-software-warning"/>
          <p:cNvPicPr/>
          <p:nvPr/>
        </p:nvPicPr>
        <p:blipFill>
          <a:blip r:embed="rId1"/>
          <a:stretch/>
        </p:blipFill>
        <p:spPr>
          <a:xfrm>
            <a:off x="1828800" y="3551400"/>
            <a:ext cx="52578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57200" y="967680"/>
            <a:ext cx="39625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ced Clea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M Antivirus 2010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faClea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pha AntiVir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G Antivir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malware Do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Mal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St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 So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 Solution Pr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A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7 or Antivirus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So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Sui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Studio 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System 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 B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724280" y="910800"/>
            <a:ext cx="3502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Exp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Spyware Sh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erm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2009, Anti Virus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XP 2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3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Pro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Gold or AntivirusG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Liv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XP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virus Pro 2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 Security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tod Antispyware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w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sellerAntivirus, Browser Def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z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Defen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838080" y="2286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List_of_rogue_security_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57200" y="-43200"/>
            <a:ext cx="3502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ber Security, Core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se Cente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tra Defra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Antimalwa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7 Antispywa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Defragm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virus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Palladium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Personal Internet Securit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Memory F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HDD 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Win Defra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HDD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Hard Drive Diagno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Disk 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Win H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System Too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Windows 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Windows Utilit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ntivirus 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VG Antiviru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495680" y="-41400"/>
            <a:ext cx="3502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Windows Shield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top Securit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Def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tor Antiviru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SpywareCleaner, EasyFix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afe, Error Ex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mart, Error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 Sh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Antivirus 200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D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Def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Shi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Securit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VM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PC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Security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-43200"/>
            <a:ext cx="3502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Swee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C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 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ware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Antivirus Microsoft Anti Mal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AntiSpyware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AntiS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ecurity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ecurity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ecurity 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shark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 Antivirus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Defender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2.Hard-Securityarmy.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D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Drive Diagno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 H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ool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D Sc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Antiviru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495680" y="95040"/>
            <a:ext cx="3502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D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xOne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com3 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din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a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Secur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Antis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AntiSpyWa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Clean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-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Scan and Sw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Privacy 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ect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ect Def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ect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AntiSpy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 Spyware Rem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Privacy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Antispy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cy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-43200"/>
            <a:ext cx="27432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A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genie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 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 Pa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 Def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y W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 Al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Kee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i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Figh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PC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Vete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Master 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Scan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Suite Plat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A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Essential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400800" y="154800"/>
            <a:ext cx="2743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Protec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Qu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She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St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X-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Striker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Protec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Str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i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r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internals Anti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fragm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ntivirus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Live Pro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657600" y="2880"/>
            <a:ext cx="2743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ivirus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H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Sol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C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da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Er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Gua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H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H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H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Marsh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She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veS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Tro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Sp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 Bl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ywareGuard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al control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9 BlueCoat is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hours of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types of interne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k9webprotecti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k9_logo"/>
          <p:cNvPicPr/>
          <p:nvPr/>
        </p:nvPicPr>
        <p:blipFill>
          <a:blip r:embed="rId1"/>
          <a:stretch/>
        </p:blipFill>
        <p:spPr>
          <a:xfrm>
            <a:off x="5791320" y="3146400"/>
            <a:ext cx="243972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 Your Computer Cl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52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e Kay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016000" y="1523880"/>
            <a:ext cx="42498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ventblockers_fans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raft_lens13634291module121254501photo_1285240414Clogged-Vents"/>
          <p:cNvPicPr/>
          <p:nvPr/>
        </p:nvPicPr>
        <p:blipFill>
          <a:blip r:embed="rId1"/>
          <a:stretch/>
        </p:blipFill>
        <p:spPr>
          <a:xfrm>
            <a:off x="1407960" y="0"/>
            <a:ext cx="63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Toothbrush"/>
          <p:cNvPicPr/>
          <p:nvPr/>
        </p:nvPicPr>
        <p:blipFill>
          <a:blip r:embed="rId1"/>
          <a:stretch/>
        </p:blipFill>
        <p:spPr>
          <a:xfrm>
            <a:off x="2971800" y="4095720"/>
            <a:ext cx="5943600" cy="2174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your desktop twice a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lug the power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l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um the insides and air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clean, dry toothbrush, clean the fans and heat s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Passwo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dictionar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of letters, numbers and special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viders require at least one upper case and one lower case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m down!  Write cl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number 1 from letter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letter O from number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upper case from lower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word mana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 but NOT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protect against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weakest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ractical away from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till forget your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Me\Desktop\it_photo_116743.jpg"/>
          <p:cNvPicPr/>
          <p:nvPr/>
        </p:nvPicPr>
        <p:blipFill>
          <a:blip r:embed="rId1"/>
          <a:stretch/>
        </p:blipFill>
        <p:spPr>
          <a:xfrm>
            <a:off x="5665680" y="4572000"/>
            <a:ext cx="3184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my computer so slow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it free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 a free yac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914400" y="1689120"/>
            <a:ext cx="7545240" cy="4102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5943600" y="380880"/>
            <a:ext cx="29718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3:05:49Z</dcterms:created>
  <dc:creator>Me</dc:creator>
  <dc:description/>
  <dc:language>en-US</dc:language>
  <cp:lastModifiedBy>Me</cp:lastModifiedBy>
  <dcterms:modified xsi:type="dcterms:W3CDTF">2015-10-04T05:49:59Z</dcterms:modified>
  <cp:revision>74</cp:revision>
  <dc:subject/>
  <dc:title>Taking Care of Your Computer</dc:title>
</cp:coreProperties>
</file>