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3.jpeg" ContentType="image/jpeg"/>
  <Override PartName="/ppt/media/image20.png" ContentType="image/png"/>
  <Override PartName="/ppt/media/image2.jpeg" ContentType="image/jpeg"/>
  <Override PartName="/ppt/media/image18.jpeg" ContentType="image/jpeg"/>
  <Override PartName="/ppt/media/image7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5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C6C8-2531-411E-BD52-24970E3FC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87FB-7D68-4E31-8CF1-0ACA6904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2744-392A-4611-A74D-25614F1D1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08F9-A07A-4DE8-BE1A-6D42615A9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62B9-4755-44AB-BD5E-23218E79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378C-5FAC-4841-8170-1C2CCF4E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DF1F-9417-4007-B3B4-549EF6E8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401B-2A44-485D-B852-8A6507F2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BF4A-D375-409B-83E0-F5EED6E4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084D-51AF-4CD4-911F-0C233324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2D39-8D04-472C-BC5E-0CAF3D40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E9DD-63DD-4E41-9F97-8DA0CBD8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7FE0-AE68-4C7F-9D5C-767C78CF2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List_of_rogue_security_software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ep Your Computer Cl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52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e Kay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ober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2016000" y="1523880"/>
            <a:ext cx="424980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e’s a c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380880" y="1521000"/>
            <a:ext cx="822960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1"/>
          <p:cNvSpPr/>
          <p:nvPr/>
        </p:nvSpPr>
        <p:spPr>
          <a:xfrm>
            <a:off x="5165640" y="3995640"/>
            <a:ext cx="3140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er too sl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rive too f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loading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many startup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temp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heating due to di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enough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Windows%20Disk%20Cleanup%20icon"/>
          <p:cNvPicPr/>
          <p:nvPr/>
        </p:nvPicPr>
        <p:blipFill>
          <a:blip r:embed="rId1"/>
          <a:stretch/>
        </p:blipFill>
        <p:spPr>
          <a:xfrm>
            <a:off x="6324480" y="3429000"/>
            <a:ext cx="1752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n’t abuse your laptop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Laptop cord"/>
          <p:cNvPicPr/>
          <p:nvPr/>
        </p:nvPicPr>
        <p:blipFill>
          <a:blip r:embed="rId1"/>
          <a:stretch/>
        </p:blipFill>
        <p:spPr>
          <a:xfrm>
            <a:off x="838080" y="1371600"/>
            <a:ext cx="7620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laptop preca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off when not being us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 up so air can circulate undern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use on soft surface if it has bottom vent h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food and drink aw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CDs and DVDs from drive when not in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Viruses and Malwar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" descr="C:\Users\Me\Desktop\14930271-a-thief-inside-computer-monitor.jpg"/>
          <p:cNvPicPr/>
          <p:nvPr/>
        </p:nvPicPr>
        <p:blipFill>
          <a:blip r:embed="rId1"/>
          <a:stretch/>
        </p:blipFill>
        <p:spPr>
          <a:xfrm>
            <a:off x="304920" y="3011400"/>
            <a:ext cx="3886200" cy="3846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C:\Users\Me\Desktop\thumb_COLOURBOX7006239.jpg"/>
          <p:cNvPicPr/>
          <p:nvPr/>
        </p:nvPicPr>
        <p:blipFill>
          <a:blip r:embed="rId2"/>
          <a:stretch/>
        </p:blipFill>
        <p:spPr>
          <a:xfrm>
            <a:off x="5181480" y="2971800"/>
            <a:ext cx="3714840" cy="37018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3198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It can happen to </a:t>
            </a:r>
            <a:br>
              <a:rPr sz="6000"/>
            </a:br>
            <a:r>
              <a:rPr b="1" lang="en-US" sz="160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 parano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915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click on banking or security links.  Type in the address if you know it’s leg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you are on the REAL site, not a mis-spelling or phishing or fake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C:\Users\Me\Desktop\Campaign_Targeted_Standard_Charteded_Bank_1.jpg"/>
          <p:cNvPicPr/>
          <p:nvPr/>
        </p:nvPicPr>
        <p:blipFill>
          <a:blip r:embed="rId1"/>
          <a:stretch/>
        </p:blipFill>
        <p:spPr>
          <a:xfrm>
            <a:off x="1752480" y="3276720"/>
            <a:ext cx="571500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Me\Desktop\e48357bd5b92683d8693407aac9e012f4cf72570.jpg"/>
          <p:cNvPicPr/>
          <p:nvPr/>
        </p:nvPicPr>
        <p:blipFill>
          <a:blip r:embed="rId1"/>
          <a:stretch/>
        </p:blipFill>
        <p:spPr>
          <a:xfrm>
            <a:off x="241200" y="457200"/>
            <a:ext cx="87440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avoid vir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9154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download free mu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download free porn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visit questionable web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open iffy attach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let teenagers use your comput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sexy"/>
          <p:cNvPicPr/>
          <p:nvPr/>
        </p:nvPicPr>
        <p:blipFill>
          <a:blip r:embed="rId1"/>
          <a:stretch/>
        </p:blipFill>
        <p:spPr>
          <a:xfrm>
            <a:off x="5257800" y="4203720"/>
            <a:ext cx="1523880" cy="2290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Don't"/>
          <p:cNvPicPr/>
          <p:nvPr/>
        </p:nvPicPr>
        <p:blipFill>
          <a:blip r:embed="rId2"/>
          <a:stretch/>
        </p:blipFill>
        <p:spPr>
          <a:xfrm>
            <a:off x="4576680" y="3911760"/>
            <a:ext cx="2886120" cy="2938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6" descr="C:\Users\Me\Desktop\music_note2.jpg"/>
          <p:cNvPicPr/>
          <p:nvPr/>
        </p:nvPicPr>
        <p:blipFill>
          <a:blip r:embed="rId3"/>
          <a:stretch/>
        </p:blipFill>
        <p:spPr>
          <a:xfrm>
            <a:off x="809640" y="4273560"/>
            <a:ext cx="1878120" cy="2038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Don't"/>
          <p:cNvPicPr/>
          <p:nvPr/>
        </p:nvPicPr>
        <p:blipFill>
          <a:blip r:embed="rId4"/>
          <a:stretch/>
        </p:blipFill>
        <p:spPr>
          <a:xfrm>
            <a:off x="380880" y="3898800"/>
            <a:ext cx="28958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the computer physically c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ll only the programs you 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ize the number of startup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off the computer when not in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yank or pull on 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care of compu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 anti-virus pr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me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on Anti-Vi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Afee Anti-Virus P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spersky Anti-Vi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antec Anti-Virus or Endpoint 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G Anti-Virus Free 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soft Defender or Security Essent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recomme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es or full protection packages, AVG paid, Panda, Trend, Avira, Av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ke security pr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paranoi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be fooled by fake ale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visit questionable web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fake-spyware-removal-software-warning"/>
          <p:cNvPicPr/>
          <p:nvPr/>
        </p:nvPicPr>
        <p:blipFill>
          <a:blip r:embed="rId1"/>
          <a:stretch/>
        </p:blipFill>
        <p:spPr>
          <a:xfrm>
            <a:off x="1828800" y="3551400"/>
            <a:ext cx="525780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457200" y="967680"/>
            <a:ext cx="39625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vanced Clea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KM Antivirus 2010 P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faClea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pha AntiVir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G Antivir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malware Do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Mal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SpyChe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SpySt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Spyware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spyware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Spyware Sof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vir Solution Pr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virus A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virus 7 or Antivirus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virus 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virus 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virus Sc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virus Sof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virus Sui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virus Studio 201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virus System P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Spyware B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4724280" y="910800"/>
            <a:ext cx="35020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SpywareExp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SpywareM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SpywareSu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Spyware Sh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verm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virus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virus 2009, Anti Virus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virus XP 20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virus 201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virus 3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virus Pro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Virus Gold or AntivirusG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virus Liv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virus M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virus XP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virus Pro 20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 Security Su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tod Antispyware 8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w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stsellerAntivirus, Browser Defe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zil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teDefend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n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838080" y="22860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n.wikipedia.org/wiki/List_of_rogue_security_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457200" y="-43200"/>
            <a:ext cx="350208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ber Security, Core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ense Cente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ltra Defrag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ta Antimalware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7 Antispyware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ck Defragm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virus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Palladium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Personal Internet Security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Memory Fi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HDD F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Win Defrag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HDD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Hard Drive Diagno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Disk Do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Win H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System Tool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Windows S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Windows Utility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Antivirus 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AVG Antivirus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495680" y="-41400"/>
            <a:ext cx="350208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Windows Shield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ktop Security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Defr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tor Anti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tor Antivirus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Clea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 Gu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SpywareCleaner, EasyFix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 Anti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safe, Error Exp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Smart, ErrorF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u Sh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en Antivirus 200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DD Resc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 Anti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Def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e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 Anti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llShie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 Security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VMSec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 PC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 Security Su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457200" y="-43200"/>
            <a:ext cx="350208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Swee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wareCr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ware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wareAl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ware B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w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ware Defe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 Antivirus Microsoft Anti Malw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 AntiSpyware 200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AntiS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Security 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Security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Security Sh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shark Anti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 Antivirus Su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 Defender Anti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2.Hard-Securityarmy.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DD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 Drive Diagno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Do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 H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Tool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DD Sca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 Antivirus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4495680" y="95040"/>
            <a:ext cx="3502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DD Resc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xOne Anti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com3 Clea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ladin Anti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vash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Secure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 Antis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 AntiSpyWare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 Clean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-Do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 Scan and Sw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 Privacy Clea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ectClea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ect Def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ect Optimi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AntiSpy 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 Anti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L Spyware Rem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Privacy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 Antispy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ion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Gu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cy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457200" y="-43200"/>
            <a:ext cx="27432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pid Anti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 Anti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A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genie Anti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y Gr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y Pa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y Def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y Wi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fety Ale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fety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fetyKee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ia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eFigh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ePCClea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eVete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Master 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Scan 200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T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Tool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Suite Plati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eA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Essentials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rt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6400800" y="154800"/>
            <a:ext cx="27432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yware Protect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ywareQu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ywareSheri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yware Stor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yware X-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y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yware Striker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yware Protect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ywareStr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y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yWi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Arm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Gu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internals Anti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Defragm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Antivirus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Live Prot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Do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yware Do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k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3657600" y="2880"/>
            <a:ext cx="27432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rt Antivirus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rt H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 Sold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yA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y A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yCr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yda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yEr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yGua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yH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yHe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usH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yMarsh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y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ySheri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Tr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veS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yTro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ySp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ywareB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yware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yware Clea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yware Bl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ywareGuard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ental control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-9 BlueCoat is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hours of internet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types of internet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k9webprotectio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k9_logo"/>
          <p:cNvPicPr/>
          <p:nvPr/>
        </p:nvPicPr>
        <p:blipFill>
          <a:blip r:embed="rId1"/>
          <a:stretch/>
        </p:blipFill>
        <p:spPr>
          <a:xfrm>
            <a:off x="5791320" y="3146400"/>
            <a:ext cx="243972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ep Your Computer Cl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66680" y="52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e Kay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ober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2016000" y="1523880"/>
            <a:ext cx="424980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ventblockers_fans"/>
          <p:cNvPicPr/>
          <p:nvPr/>
        </p:nvPicPr>
        <p:blipFill>
          <a:blip r:embed="rId1"/>
          <a:stretch/>
        </p:blipFill>
        <p:spPr>
          <a:xfrm>
            <a:off x="0" y="149400"/>
            <a:ext cx="9144000" cy="65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draft_lens13634291module121254501photo_1285240414Clogged-Vents"/>
          <p:cNvPicPr/>
          <p:nvPr/>
        </p:nvPicPr>
        <p:blipFill>
          <a:blip r:embed="rId1"/>
          <a:stretch/>
        </p:blipFill>
        <p:spPr>
          <a:xfrm>
            <a:off x="1407960" y="0"/>
            <a:ext cx="6328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Toothbrush"/>
          <p:cNvPicPr/>
          <p:nvPr/>
        </p:nvPicPr>
        <p:blipFill>
          <a:blip r:embed="rId1"/>
          <a:stretch/>
        </p:blipFill>
        <p:spPr>
          <a:xfrm>
            <a:off x="2971800" y="4095720"/>
            <a:ext cx="5943600" cy="21747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ean your desktop twice a y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3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plug the power c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the l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cuum the insides and air h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a clean, dry toothbrush, clean the fans and heat s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ing Passwor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use dictionary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x of letters, numbers and special charac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roviders require at least one upper case and one lower case l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m down!  Write cle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number 1 from letter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letter O from number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upper case from lower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sword mana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versial but NOT recomme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n’t protect against th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weakest 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practical away from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still forget your pass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the poi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Users\Me\Desktop\it_photo_116743.jpg"/>
          <p:cNvPicPr/>
          <p:nvPr/>
        </p:nvPicPr>
        <p:blipFill>
          <a:blip r:embed="rId1"/>
          <a:stretch/>
        </p:blipFill>
        <p:spPr>
          <a:xfrm>
            <a:off x="5665680" y="4572000"/>
            <a:ext cx="318456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my computer so slow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es it freez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nt a free yac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914400" y="1689120"/>
            <a:ext cx="7545240" cy="4102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" descr=""/>
          <p:cNvPicPr/>
          <p:nvPr/>
        </p:nvPicPr>
        <p:blipFill>
          <a:blip r:embed="rId2"/>
          <a:stretch/>
        </p:blipFill>
        <p:spPr>
          <a:xfrm>
            <a:off x="5943600" y="380880"/>
            <a:ext cx="297180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03:05:49Z</dcterms:created>
  <dc:creator>Me</dc:creator>
  <dc:description/>
  <dc:language>en-US</dc:language>
  <cp:lastModifiedBy>Me</cp:lastModifiedBy>
  <dcterms:modified xsi:type="dcterms:W3CDTF">2015-10-04T05:49:59Z</dcterms:modified>
  <cp:revision>74</cp:revision>
  <dc:subject/>
  <dc:title>Taking Care of Your Computer</dc:title>
</cp:coreProperties>
</file>