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D5A9-EF25-4093-B55A-74084A7B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AAC1-EADA-4A54-8A24-C86FF915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FBE2-E18B-4788-B8E2-57A01647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6C09-F975-46A4-8667-87C343A38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09AF-B9D5-4ED5-95DF-FF190EE9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C62C-4D8F-4EA0-A24E-E30E5E7B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E26-DC46-4F60-B094-24D4303E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1F21-788C-4C6D-97C5-FD0391AB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59BD-CF0B-4135-AD96-A1AE45EF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6226-8AED-476B-A8AB-B13D683A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E29B-F899-48B0-A450-6D60700C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98AF-EB6A-4AE8-B401-B4E3A60B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1477-7F99-4023-BC54-ABB8CCB56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Future of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ersonal Comput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D0D3-F88F-4F6E-945D-9142454EF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oud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Do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yDr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(Word, Excel, PowerPoi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ever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780C-95E6-43CA-9AD7-9AB1CE51B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dle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846D-356C-4886-9CC6-FC6971BF2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Me\Desktop\DSC_4665.jpg"/>
          <p:cNvPicPr/>
          <p:nvPr/>
        </p:nvPicPr>
        <p:blipFill>
          <a:blip r:embed="rId1"/>
          <a:stretch/>
        </p:blipFill>
        <p:spPr>
          <a:xfrm>
            <a:off x="3809880" y="1600200"/>
            <a:ext cx="57150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king s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k a tab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k a smart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3E5A-7C8B-4F7C-A8F4-6008EFB08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Me\Desktop\jorno-bluetooth-pocket-keyboard-for-smartphones.jpg"/>
          <p:cNvPicPr/>
          <p:nvPr/>
        </p:nvPicPr>
        <p:blipFill>
          <a:blip r:embed="rId1"/>
          <a:stretch/>
        </p:blipFill>
        <p:spPr>
          <a:xfrm>
            <a:off x="4724280" y="1523880"/>
            <a:ext cx="3810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living 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B3A7-6F9F-4F92-A4E5-C144DCC11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Me\Desktop\e2012050886471.jpg"/>
          <p:cNvPicPr/>
          <p:nvPr/>
        </p:nvPicPr>
        <p:blipFill>
          <a:blip r:embed="rId1"/>
          <a:stretch/>
        </p:blipFill>
        <p:spPr>
          <a:xfrm>
            <a:off x="533520" y="1752480"/>
            <a:ext cx="81914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5F9E-1CB2-4A87-B9E8-3F0A011A7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C:\Users\Me\Desktop\AVLRN1.jpg"/>
          <p:cNvPicPr/>
          <p:nvPr/>
        </p:nvPicPr>
        <p:blipFill>
          <a:blip r:embed="rId1"/>
          <a:stretch/>
        </p:blipFill>
        <p:spPr>
          <a:xfrm>
            <a:off x="0" y="0"/>
            <a:ext cx="92455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ng to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ng to mob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ath of the desk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with tel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09D5-EF6E-4BE6-96E5-2D9315D4F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2CF8-3F66-4AB9-88C0-53CF29E0F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77760" y="64771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ingularityhub.com/2013/04/24/switch-to-tablet-and-smartphone-drives-striking-sales-declines-in-pc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C:\Users\Me\Desktop\Untitled-2.jpg"/>
          <p:cNvPicPr/>
          <p:nvPr/>
        </p:nvPicPr>
        <p:blipFill>
          <a:blip r:embed="rId1"/>
          <a:stretch/>
        </p:blipFill>
        <p:spPr>
          <a:xfrm>
            <a:off x="216000" y="0"/>
            <a:ext cx="890568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2B9F-EE32-4FBA-8358-9D55D7088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ktop computers worldwid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223040" y="4910040"/>
            <a:ext cx="176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>
            <a:off x="609480" y="1295280"/>
            <a:ext cx="79250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C:\Users\Me\Desktop\a.jpg"/>
          <p:cNvPicPr/>
          <p:nvPr/>
        </p:nvPicPr>
        <p:blipFill>
          <a:blip r:embed="rId1"/>
          <a:stretch/>
        </p:blipFill>
        <p:spPr>
          <a:xfrm>
            <a:off x="249120" y="1676520"/>
            <a:ext cx="8774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t sales worldw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ACD7-455F-47B0-9405-092FB7F60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Me\Desktop\b.jpg"/>
          <p:cNvPicPr/>
          <p:nvPr/>
        </p:nvPicPr>
        <p:blipFill>
          <a:blip r:embed="rId1"/>
          <a:stretch/>
        </p:blipFill>
        <p:spPr>
          <a:xfrm>
            <a:off x="1066680" y="1133640"/>
            <a:ext cx="69534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rtphones in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F79C-4041-43B5-A1A7-C853967FC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www.google.com/url?sa=i&amp;source=images&amp;cd=&amp;docid=S2pwCO1O_hspNM&amp;tbnid=jrRUVUEDIK26TM:&amp;ved=0CAUQjBwwAA&amp;url=http%3A%2F%2Fcdn.thenextweb.com%2Fwp-content%2Fblogs.dir%2F1%2Ffiles%2F2012%2F11%2Fandroidmarketsharechina.jpg&amp;ei=5w-QUZSpL43VigKa44GoBw&amp;psig=AFQjCNEbm5EgkyUHS5G-AZdJXNOTDC5N4Q&amp;ust=1368482151817844"/>
          <p:cNvPicPr/>
          <p:nvPr/>
        </p:nvPicPr>
        <p:blipFill>
          <a:blip r:embed="rId1"/>
          <a:stretch/>
        </p:blipFill>
        <p:spPr>
          <a:xfrm>
            <a:off x="1066680" y="1219320"/>
            <a:ext cx="670572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V / computer conver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7BCB-764C-4557-8553-2F08C7AD1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Me\Desktop\smart_hub.JPG"/>
          <p:cNvPicPr/>
          <p:nvPr/>
        </p:nvPicPr>
        <p:blipFill>
          <a:blip r:embed="rId1"/>
          <a:stretch/>
        </p:blipFill>
        <p:spPr>
          <a:xfrm>
            <a:off x="380880" y="1143000"/>
            <a:ext cx="85345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7B94-AC95-424F-8111-DFD82E010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609480" y="380880"/>
            <a:ext cx="8382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 TV demo    http://www.youtube.com/watch?v=j_eh6vyEI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 tablet ad http://www.youtube.com/watch?v=h_kqMepD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sung SmartHub ad 1 https://www.youtube.com/watch?v=PaalxfG_Sy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sung SmartHub ad 2 https://www.youtube.com/watch?v=F09sFGzzJC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C:\Users\Me\Desktop\new-skydrive-logo1.png"/>
          <p:cNvPicPr/>
          <p:nvPr/>
        </p:nvPicPr>
        <p:blipFill>
          <a:blip r:embed="rId1"/>
          <a:stretch/>
        </p:blipFill>
        <p:spPr>
          <a:xfrm>
            <a:off x="3854520" y="1371600"/>
            <a:ext cx="4724280" cy="3046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loud stor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AC74-8CB7-4DB1-BFA0-EFA1F32D4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Users\Me\Desktop\googledocs.jpg"/>
          <p:cNvPicPr/>
          <p:nvPr/>
        </p:nvPicPr>
        <p:blipFill>
          <a:blip r:embed="rId2"/>
          <a:stretch/>
        </p:blipFill>
        <p:spPr>
          <a:xfrm>
            <a:off x="4114800" y="4114800"/>
            <a:ext cx="4460760" cy="1971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Me\Desktop\Dropbox_[69-1-94412].png"/>
          <p:cNvPicPr/>
          <p:nvPr/>
        </p:nvPicPr>
        <p:blipFill>
          <a:blip r:embed="rId3"/>
          <a:stretch/>
        </p:blipFill>
        <p:spPr>
          <a:xfrm>
            <a:off x="235080" y="1981080"/>
            <a:ext cx="32511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23:27:11Z</dcterms:created>
  <dc:creator>Me</dc:creator>
  <dc:description/>
  <dc:language>en-US</dc:language>
  <cp:lastModifiedBy>Me</cp:lastModifiedBy>
  <dcterms:modified xsi:type="dcterms:W3CDTF">2013-06-19T00:00:59Z</dcterms:modified>
  <cp:revision>41</cp:revision>
  <dc:subject/>
  <dc:title>Major Silicon Valley companies  2009</dc:title>
</cp:coreProperties>
</file>