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987-6895-4B68-AB09-2EA1BDFF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5DA-F12D-47F7-90F0-98DB614A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06A-0667-4431-8216-8CF60D93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6C8-D6EC-4E83-B7CD-A70EBF20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5AF-52CA-4A78-9086-475C8AF8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389-7F74-437E-8AE5-2E0A9C00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F88-7460-4008-B1F6-B66CC966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E20-0CFA-406E-9D65-D9B380A6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8D7-8015-4FCA-A0A1-CFB33AC8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51E-EE49-40A8-AE9C-C925F668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2F8-B47E-4CF1-A2F5-DEF06369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1C3-C519-4EB5-95F0-89C126E6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54E2-1C93-426A-BD12-BB2FE9AB5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Future of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sonal Compu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5B0C-3A66-45C2-9093-BE4415111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ud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Do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y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(Word, Excel, Power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B73F-795C-43CD-AE6E-1030218BD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le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B31F-AAA9-4A3D-AD25-51BBFA95B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Me\Desktop\DSC_4665.jpg"/>
          <p:cNvPicPr/>
          <p:nvPr/>
        </p:nvPicPr>
        <p:blipFill>
          <a:blip r:embed="rId1"/>
          <a:stretch/>
        </p:blipFill>
        <p:spPr>
          <a:xfrm>
            <a:off x="3809880" y="1600200"/>
            <a:ext cx="57150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king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k a tab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k a smart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0BCA-0730-42AE-820A-4D67A7F17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Me\Desktop\jorno-bluetooth-pocket-keyboard-for-smartphones.jpg"/>
          <p:cNvPicPr/>
          <p:nvPr/>
        </p:nvPicPr>
        <p:blipFill>
          <a:blip r:embed="rId1"/>
          <a:stretch/>
        </p:blipFill>
        <p:spPr>
          <a:xfrm>
            <a:off x="4724280" y="1523880"/>
            <a:ext cx="3810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living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ECFA-EDDD-49BB-B1DB-49E9CEB0B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Me\Desktop\e2012050886471.jpg"/>
          <p:cNvPicPr/>
          <p:nvPr/>
        </p:nvPicPr>
        <p:blipFill>
          <a:blip r:embed="rId1"/>
          <a:stretch/>
        </p:blipFill>
        <p:spPr>
          <a:xfrm>
            <a:off x="533520" y="1752480"/>
            <a:ext cx="81914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E3B0-F75F-4948-91CD-198EE85AE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:\Users\Me\Desktop\AVLRN1.jpg"/>
          <p:cNvPicPr/>
          <p:nvPr/>
        </p:nvPicPr>
        <p:blipFill>
          <a:blip r:embed="rId1"/>
          <a:stretch/>
        </p:blipFill>
        <p:spPr>
          <a:xfrm>
            <a:off x="0" y="0"/>
            <a:ext cx="92455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to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to mo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the desk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with 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8D5D-E6F6-4549-8F50-18C981144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F38A-84BE-4DD2-AD82-8CFAF2CF7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77760" y="6477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ingularityhub.com/2013/04/24/switch-to-tablet-and-smartphone-drives-striking-sales-declines-in-pc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Users\Me\Desktop\Untitled-2.jpg"/>
          <p:cNvPicPr/>
          <p:nvPr/>
        </p:nvPicPr>
        <p:blipFill>
          <a:blip r:embed="rId1"/>
          <a:stretch/>
        </p:blipFill>
        <p:spPr>
          <a:xfrm>
            <a:off x="216000" y="0"/>
            <a:ext cx="890568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306A-9D14-4EFD-B476-48514E70A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ktop computers worldwid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223040" y="4910040"/>
            <a:ext cx="176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609480" y="1295280"/>
            <a:ext cx="7925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C:\Users\Me\Desktop\a.jpg"/>
          <p:cNvPicPr/>
          <p:nvPr/>
        </p:nvPicPr>
        <p:blipFill>
          <a:blip r:embed="rId1"/>
          <a:stretch/>
        </p:blipFill>
        <p:spPr>
          <a:xfrm>
            <a:off x="249120" y="1676520"/>
            <a:ext cx="8774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 sales worldw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DF53-72FF-428B-9F8D-D9825BE66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Me\Desktop\b.jpg"/>
          <p:cNvPicPr/>
          <p:nvPr/>
        </p:nvPicPr>
        <p:blipFill>
          <a:blip r:embed="rId1"/>
          <a:stretch/>
        </p:blipFill>
        <p:spPr>
          <a:xfrm>
            <a:off x="1066680" y="1133640"/>
            <a:ext cx="69534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phones in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0BC8-D855-4784-A7E0-D102EE84A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google.com/url?sa=i&amp;source=images&amp;cd=&amp;docid=S2pwCO1O_hspNM&amp;tbnid=jrRUVUEDIK26TM:&amp;ved=0CAUQjBwwAA&amp;url=http%3A%2F%2Fcdn.thenextweb.com%2Fwp-content%2Fblogs.dir%2F1%2Ffiles%2F2012%2F11%2Fandroidmarketsharechina.jpg&amp;ei=5w-QUZSpL43VigKa44GoBw&amp;psig=AFQjCNEbm5EgkyUHS5G-AZdJXNOTDC5N4Q&amp;ust=1368482151817844"/>
          <p:cNvPicPr/>
          <p:nvPr/>
        </p:nvPicPr>
        <p:blipFill>
          <a:blip r:embed="rId1"/>
          <a:stretch/>
        </p:blipFill>
        <p:spPr>
          <a:xfrm>
            <a:off x="1066680" y="1219320"/>
            <a:ext cx="670572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/ computer conv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0D95-6BDD-4D79-9964-114FBC1AC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Me\Desktop\smart_hub.JPG"/>
          <p:cNvPicPr/>
          <p:nvPr/>
        </p:nvPicPr>
        <p:blipFill>
          <a:blip r:embed="rId1"/>
          <a:stretch/>
        </p:blipFill>
        <p:spPr>
          <a:xfrm>
            <a:off x="380880" y="1143000"/>
            <a:ext cx="85345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742B-BEAF-4028-A95E-6899D7196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609480" y="380880"/>
            <a:ext cx="838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TV demo    http://www.youtube.com/watch?v=j_eh6vyEI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tablet ad http://www.youtube.com/watch?v=h_kqMepD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sung SmartHub ad 1 https://www.youtube.com/watch?v=PaalxfG_Sy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sung SmartHub ad 2 https://www.youtube.com/watch?v=F09sFGzzJC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:\Users\Me\Desktop\new-skydrive-logo1.png"/>
          <p:cNvPicPr/>
          <p:nvPr/>
        </p:nvPicPr>
        <p:blipFill>
          <a:blip r:embed="rId1"/>
          <a:stretch/>
        </p:blipFill>
        <p:spPr>
          <a:xfrm>
            <a:off x="3854520" y="1371600"/>
            <a:ext cx="4724280" cy="3046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loud stor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9E28-0205-475C-847F-2053B2596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Me\Desktop\googledocs.jpg"/>
          <p:cNvPicPr/>
          <p:nvPr/>
        </p:nvPicPr>
        <p:blipFill>
          <a:blip r:embed="rId2"/>
          <a:stretch/>
        </p:blipFill>
        <p:spPr>
          <a:xfrm>
            <a:off x="4114800" y="4114800"/>
            <a:ext cx="4460760" cy="1971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Me\Desktop\Dropbox_[69-1-94412].png"/>
          <p:cNvPicPr/>
          <p:nvPr/>
        </p:nvPicPr>
        <p:blipFill>
          <a:blip r:embed="rId3"/>
          <a:stretch/>
        </p:blipFill>
        <p:spPr>
          <a:xfrm>
            <a:off x="235080" y="1981080"/>
            <a:ext cx="3251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23:27:11Z</dcterms:created>
  <dc:creator>Me</dc:creator>
  <dc:description/>
  <dc:language>en-US</dc:language>
  <cp:lastModifiedBy>Me</cp:lastModifiedBy>
  <dcterms:modified xsi:type="dcterms:W3CDTF">2013-06-19T00:00:59Z</dcterms:modified>
  <cp:revision>41</cp:revision>
  <dc:subject/>
  <dc:title>Major Silicon Valley companies  2009</dc:title>
</cp:coreProperties>
</file>